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D2B0-81F6-4A9A-A76B-631A42BFB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A47F-DFFA-4B7E-AAE9-85178471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ABFA-ED0F-4E0F-9E36-87151484E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4507-DBE3-4E7E-99FE-278DF7D2B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27C1-E6A4-419D-9F33-BB840639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AE31-8EDD-45DC-995A-08083E3E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4BF3-C3CA-46D1-8FFB-00AE2C5C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4CD5-83FF-4D2B-9C9C-506AFB2C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C307-56D7-44F5-9C63-F54E007A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EAE2-CE66-43AF-A92B-F4488A0C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A43B-732A-4BE0-A94A-7D872FF4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4BAC-D0F0-4F12-984B-522FD171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WS-C/WS-T De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2"/>
          </p:nvPr>
        </p:nvSpPr>
        <p:spPr>
          <a:xfrm>
            <a:off x="-360" y="6629040"/>
            <a:ext cx="2133720" cy="24300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-360" y="0"/>
            <a:ext cx="2133720" cy="25704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3B38-CBE5-4A42-850A-06C43FC8AAA2}" type="slidenum">
              <a:rPr b="1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65640" y="6643800"/>
            <a:ext cx="2466720" cy="21420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© 2003 Arjuna Technologies Lt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6ea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6ea4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6ea4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186ea4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a4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rjuna_logo" descr=""/>
          <p:cNvPicPr/>
          <p:nvPr/>
        </p:nvPicPr>
        <p:blipFill>
          <a:blip r:embed="rId2"/>
          <a:stretch/>
        </p:blipFill>
        <p:spPr>
          <a:xfrm>
            <a:off x="1371600" y="290520"/>
            <a:ext cx="6400800" cy="62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801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86ea4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flipH="1" flipV="1" rot="5400000">
            <a:off x="4532760" y="2094840"/>
            <a:ext cx="304920" cy="2361960"/>
          </a:xfrm>
          <a:prstGeom prst="upArrow">
            <a:avLst>
              <a:gd name="adj1" fmla="val 50000"/>
              <a:gd name="adj2" fmla="val 193654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 rot="16200000">
            <a:off x="4304880" y="1333440"/>
            <a:ext cx="304560" cy="2361960"/>
          </a:xfrm>
          <a:prstGeom prst="upArrow">
            <a:avLst>
              <a:gd name="adj1" fmla="val 50000"/>
              <a:gd name="adj2" fmla="val 19388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6ea4"/>
                </a:solidFill>
                <a:latin typeface="Tahoma"/>
              </a:rPr>
              <a:t>WS-C protocols: Activation &amp; Registration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6ea4"/>
                </a:solidFill>
                <a:latin typeface="Tahoma"/>
              </a:rPr>
              <a:t>WS-T protocols: Completion, CompletionWithAck, 2PC, ZeroPhase &amp; OutcomeNotification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1752480"/>
            <a:ext cx="1752840" cy="2286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1752480"/>
            <a:ext cx="1752840" cy="2286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rticip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56320" y="2305080"/>
            <a:ext cx="420480" cy="4190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32767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65400" y="3067200"/>
            <a:ext cx="420840" cy="4190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11480" y="25146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2057400"/>
            <a:ext cx="3657600" cy="1752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 flipH="1" rot="12721200">
            <a:off x="4645440" y="1533600"/>
            <a:ext cx="304920" cy="2960640"/>
          </a:xfrm>
          <a:prstGeom prst="upArrow">
            <a:avLst>
              <a:gd name="adj1" fmla="val 50000"/>
              <a:gd name="adj2" fmla="val 24273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 in header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 flipV="1" rot="16200000">
            <a:off x="4495680" y="335196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 flipV="1" rot="8607600">
            <a:off x="4265640" y="1675800"/>
            <a:ext cx="304920" cy="3809880"/>
          </a:xfrm>
          <a:prstGeom prst="upArrow">
            <a:avLst>
              <a:gd name="adj1" fmla="val 50000"/>
              <a:gd name="adj2" fmla="val 31236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2PC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 flipH="1" rot="8748000">
            <a:off x="4134960" y="982080"/>
            <a:ext cx="304920" cy="3886200"/>
          </a:xfrm>
          <a:prstGeom prst="upArrow">
            <a:avLst>
              <a:gd name="adj1" fmla="val 50000"/>
              <a:gd name="adj2" fmla="val 318625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 flipV="1" rot="5400000">
            <a:off x="4648320" y="3657600"/>
            <a:ext cx="304560" cy="1371600"/>
          </a:xfrm>
          <a:prstGeom prst="upArrow">
            <a:avLst>
              <a:gd name="adj1" fmla="val 50000"/>
              <a:gd name="adj2" fmla="val 11258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2286000" y="205740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 flipH="1" rot="8904000">
            <a:off x="4494600" y="609480"/>
            <a:ext cx="304920" cy="2895840"/>
          </a:xfrm>
          <a:prstGeom prst="upArrow">
            <a:avLst>
              <a:gd name="adj1" fmla="val 50000"/>
              <a:gd name="adj2" fmla="val 2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Prepare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 flipV="1" rot="16200000">
            <a:off x="4495680" y="30384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 flipV="1" rot="8904000">
            <a:off x="4647600" y="1218600"/>
            <a:ext cx="304560" cy="2895840"/>
          </a:xfrm>
          <a:prstGeom prst="upArrow">
            <a:avLst>
              <a:gd name="adj1" fmla="val 50000"/>
              <a:gd name="adj2" fmla="val 23770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Prepared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03" name=""/>
          <p:cNvSpPr/>
          <p:nvPr/>
        </p:nvSpPr>
        <p:spPr>
          <a:xfrm flipV="1" rot="5400000">
            <a:off x="4647960" y="60840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 flipH="1" rot="8904000">
            <a:off x="4494600" y="609480"/>
            <a:ext cx="304920" cy="2895840"/>
          </a:xfrm>
          <a:prstGeom prst="upArrow">
            <a:avLst>
              <a:gd name="adj1" fmla="val 50000"/>
              <a:gd name="adj2" fmla="val 2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 flipV="1" rot="16200000">
            <a:off x="4495680" y="30384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 flipV="1" rot="8904000">
            <a:off x="4647600" y="1218600"/>
            <a:ext cx="304560" cy="2895840"/>
          </a:xfrm>
          <a:prstGeom prst="upArrow">
            <a:avLst>
              <a:gd name="adj1" fmla="val 50000"/>
              <a:gd name="adj2" fmla="val 23770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ted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 flipV="1" rot="5400000">
            <a:off x="4647960" y="60840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ted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2666880" y="19051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reateCoordiationContext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205740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reateCoordiationContext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905120" y="1905120"/>
            <a:ext cx="304560" cy="1676160"/>
          </a:xfrm>
          <a:prstGeom prst="upArrow">
            <a:avLst>
              <a:gd name="adj1" fmla="val 50000"/>
              <a:gd name="adj2" fmla="val 13758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6ea4"/>
                </a:solidFill>
                <a:latin typeface="Tahoma"/>
              </a:rPr>
              <a:t>Completion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2057400"/>
            <a:ext cx="304560" cy="1676520"/>
          </a:xfrm>
          <a:prstGeom prst="upArrow">
            <a:avLst>
              <a:gd name="adj1" fmla="val 50000"/>
              <a:gd name="adj2" fmla="val 137618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429000" y="19051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 flipV="1" rot="12712200">
            <a:off x="4460400" y="1534320"/>
            <a:ext cx="304920" cy="2865600"/>
          </a:xfrm>
          <a:prstGeom prst="upArrow">
            <a:avLst>
              <a:gd name="adj1" fmla="val 50000"/>
              <a:gd name="adj2" fmla="val 23494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 in header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 flipV="1" rot="6259200">
            <a:off x="4302360" y="1052640"/>
            <a:ext cx="304560" cy="2362320"/>
          </a:xfrm>
          <a:prstGeom prst="upArrow">
            <a:avLst>
              <a:gd name="adj1" fmla="val 50000"/>
              <a:gd name="adj2" fmla="val 19391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2PC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 flipV="1" rot="16811400">
            <a:off x="4113000" y="987480"/>
            <a:ext cx="304560" cy="2137320"/>
          </a:xfrm>
          <a:prstGeom prst="upArrow">
            <a:avLst>
              <a:gd name="adj1" fmla="val 50000"/>
              <a:gd name="adj2" fmla="val 17544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uart Wheater</cp:lastModifiedBy>
  <dcterms:modified xsi:type="dcterms:W3CDTF">2003-03-30T23:37:18Z</dcterms:modified>
  <cp:revision>35</cp:revision>
  <dc:subject/>
  <dc:title>PowerPoint Presentation</dc:title>
</cp:coreProperties>
</file>