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A844-4A04-4C29-A9E5-D2CE2245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571F-2C6D-46D0-9721-D8E0E98F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0831-90BC-4DA7-BA5D-518428767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4715-3101-49F2-8ED9-154D17BE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C12F-11A6-491E-BC9E-756FF4F1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63FD-2C47-41E2-A50A-4EF8F996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BA02-C4E4-40BD-B23A-84260701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4883-3CC5-4705-92D3-427A0A4A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2C09-B4F0-49CB-8CE8-E1B772C6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9F73-8C91-47F6-81DA-C0D5D135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EE97-D495-4778-82D0-8E101767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DC03-FAC6-4CE2-AED7-BEC024A6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WS-C/WS-T D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2"/>
          </p:nvPr>
        </p:nvSpPr>
        <p:spPr>
          <a:xfrm>
            <a:off x="-360" y="6629040"/>
            <a:ext cx="2133720" cy="2430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2133720" cy="2570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4DF5-458A-48A5-8F43-0BBDE5AF08A7}" type="slidenum">
              <a:rPr b="1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65640" y="6643800"/>
            <a:ext cx="2466720" cy="2142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© 2003 Arjuna Technologies Lt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6ea4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a4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rjuna_logo" descr=""/>
          <p:cNvPicPr/>
          <p:nvPr/>
        </p:nvPicPr>
        <p:blipFill>
          <a:blip r:embed="rId2"/>
          <a:stretch/>
        </p:blipFill>
        <p:spPr>
          <a:xfrm>
            <a:off x="1371600" y="290520"/>
            <a:ext cx="6400800" cy="62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01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flipH="1" flipV="1" rot="5400000">
            <a:off x="4532760" y="2094840"/>
            <a:ext cx="304920" cy="2361960"/>
          </a:xfrm>
          <a:prstGeom prst="upArrow">
            <a:avLst>
              <a:gd name="adj1" fmla="val 50000"/>
              <a:gd name="adj2" fmla="val 193654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 rot="16200000">
            <a:off x="4304880" y="1333440"/>
            <a:ext cx="304560" cy="2361960"/>
          </a:xfrm>
          <a:prstGeom prst="upArrow">
            <a:avLst>
              <a:gd name="adj1" fmla="val 50000"/>
              <a:gd name="adj2" fmla="val 19388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C protocols: Activation &amp; Registr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T protocols: Completion, CompletionWithAck, 2PC, ZeroPhase &amp; OutcomeNotific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rticip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56320" y="2305080"/>
            <a:ext cx="42048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32767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65400" y="3067200"/>
            <a:ext cx="42084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11480" y="2514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2057400"/>
            <a:ext cx="3657600" cy="1752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 flipH="1" rot="12721200">
            <a:off x="4645440" y="1533600"/>
            <a:ext cx="304920" cy="2960640"/>
          </a:xfrm>
          <a:prstGeom prst="upArrow">
            <a:avLst>
              <a:gd name="adj1" fmla="val 50000"/>
              <a:gd name="adj2" fmla="val 24273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 flipV="1" rot="16200000">
            <a:off x="4495680" y="335196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 flipV="1" rot="8607600">
            <a:off x="4265640" y="1675800"/>
            <a:ext cx="304920" cy="3809880"/>
          </a:xfrm>
          <a:prstGeom prst="upArrow">
            <a:avLst>
              <a:gd name="adj1" fmla="val 50000"/>
              <a:gd name="adj2" fmla="val 31236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 flipH="1" rot="8748000">
            <a:off x="4134960" y="982080"/>
            <a:ext cx="304920" cy="3886200"/>
          </a:xfrm>
          <a:prstGeom prst="upArrow">
            <a:avLst>
              <a:gd name="adj1" fmla="val 50000"/>
              <a:gd name="adj2" fmla="val 318625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 flipV="1" rot="5400000">
            <a:off x="4648320" y="3657600"/>
            <a:ext cx="304560" cy="1371600"/>
          </a:xfrm>
          <a:prstGeom prst="upArrow">
            <a:avLst>
              <a:gd name="adj1" fmla="val 50000"/>
              <a:gd name="adj2" fmla="val 112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228600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266688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05120" y="1905120"/>
            <a:ext cx="304560" cy="1676160"/>
          </a:xfrm>
          <a:prstGeom prst="upArrow">
            <a:avLst>
              <a:gd name="adj1" fmla="val 50000"/>
              <a:gd name="adj2" fmla="val 137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Completion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2057400"/>
            <a:ext cx="304560" cy="1676520"/>
          </a:xfrm>
          <a:prstGeom prst="upArrow">
            <a:avLst>
              <a:gd name="adj1" fmla="val 50000"/>
              <a:gd name="adj2" fmla="val 137618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42900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 flipV="1" rot="12712200">
            <a:off x="4460400" y="1534320"/>
            <a:ext cx="304920" cy="2865600"/>
          </a:xfrm>
          <a:prstGeom prst="upArrow">
            <a:avLst>
              <a:gd name="adj1" fmla="val 50000"/>
              <a:gd name="adj2" fmla="val 23494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 flipV="1" rot="6259200">
            <a:off x="4302360" y="1052640"/>
            <a:ext cx="304560" cy="2362320"/>
          </a:xfrm>
          <a:prstGeom prst="upArrow">
            <a:avLst>
              <a:gd name="adj1" fmla="val 50000"/>
              <a:gd name="adj2" fmla="val 19391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 flipV="1" rot="16811400">
            <a:off x="4113000" y="987480"/>
            <a:ext cx="304560" cy="2137320"/>
          </a:xfrm>
          <a:prstGeom prst="upArrow">
            <a:avLst>
              <a:gd name="adj1" fmla="val 50000"/>
              <a:gd name="adj2" fmla="val 17544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art Wheater</cp:lastModifiedBy>
  <dcterms:modified xsi:type="dcterms:W3CDTF">2003-03-30T23:37:18Z</dcterms:modified>
  <cp:revision>35</cp:revision>
  <dc:subject/>
  <dc:title>PowerPoint Presentation</dc:title>
</cp:coreProperties>
</file>