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1EE-ACF0-4BC6-866F-0B7F919F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D5D2-780F-437A-901E-CB68A2A2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9BA-BC38-4A0B-9603-7ECFA9A9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80A-BF9E-473B-A46D-89468449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A122-E5E6-48B2-B770-FCF7941A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9A1-7228-41D4-A08E-933E50DD6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41E6-955F-4A45-A868-343CD47E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8768-8405-4B39-8B29-1A29949C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CAF8-53DD-4167-A026-61D255422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CDFA-F3AB-496A-AD4A-5DB68A6C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6109-C447-459D-AF3E-BD4F0FB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264E-030D-4330-989F-8009BA64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0" y="6611760"/>
            <a:ext cx="9144000" cy="2606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WS-C/WS-T D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2"/>
          </p:nvPr>
        </p:nvSpPr>
        <p:spPr>
          <a:xfrm>
            <a:off x="-360" y="6629040"/>
            <a:ext cx="2133720" cy="2430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2133720" cy="25704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BD5C-EB6D-47E3-90FB-8A2F9EBEAAAF}" type="slidenum">
              <a:rPr b="1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1" lang="en-GB" sz="1200" spc="-1" strike="noStrike">
                <a:solidFill>
                  <a:srgbClr val="ffffff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365640" y="6643800"/>
            <a:ext cx="2466720" cy="214200"/>
          </a:xfrm>
          <a:prstGeom prst="rect">
            <a:avLst/>
          </a:prstGeom>
          <a:solidFill>
            <a:srgbClr val="186e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ahoma"/>
              </a:rPr>
              <a:t>© 2003 Arjuna Technologies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86ea4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6ea4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6ea4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juna_logo" descr=""/>
          <p:cNvPicPr/>
          <p:nvPr/>
        </p:nvPicPr>
        <p:blipFill>
          <a:blip r:embed="rId2"/>
          <a:stretch/>
        </p:blipFill>
        <p:spPr>
          <a:xfrm>
            <a:off x="1371600" y="290520"/>
            <a:ext cx="6400800" cy="627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01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86ea4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186ea4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 flipV="1" rot="5400000">
            <a:off x="4532760" y="2094840"/>
            <a:ext cx="304920" cy="2361960"/>
          </a:xfrm>
          <a:prstGeom prst="upArrow">
            <a:avLst>
              <a:gd name="adj1" fmla="val 50000"/>
              <a:gd name="adj2" fmla="val 193654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 rot="16200000">
            <a:off x="4304880" y="1333440"/>
            <a:ext cx="304560" cy="2361960"/>
          </a:xfrm>
          <a:prstGeom prst="upArrow">
            <a:avLst>
              <a:gd name="adj1" fmla="val 50000"/>
              <a:gd name="adj2" fmla="val 19388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C protocols: Activation &amp; Registr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186ea4"/>
                </a:solidFill>
                <a:latin typeface="Tahoma"/>
              </a:rPr>
              <a:t>WS-T protocols: Completion, CompletionWithAck, 2PC, ZeroPhase &amp; OutcomeNotification</a:t>
            </a:r>
            <a:endParaRPr b="0" lang="en-US" sz="24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72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752480"/>
            <a:ext cx="1752840" cy="22860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ticip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56320" y="2305080"/>
            <a:ext cx="42048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32767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65400" y="3067200"/>
            <a:ext cx="420840" cy="41904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11480" y="251460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2057400"/>
            <a:ext cx="3657600" cy="1752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 flipH="1" rot="12721200">
            <a:off x="4645440" y="1533600"/>
            <a:ext cx="304920" cy="2960640"/>
          </a:xfrm>
          <a:prstGeom prst="upArrow">
            <a:avLst>
              <a:gd name="adj1" fmla="val 50000"/>
              <a:gd name="adj2" fmla="val 24273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6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97" name=""/>
          <p:cNvSpPr/>
          <p:nvPr/>
        </p:nvSpPr>
        <p:spPr>
          <a:xfrm flipV="1" rot="16200000">
            <a:off x="4495680" y="335196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 flipV="1" rot="8607600">
            <a:off x="4265640" y="1675800"/>
            <a:ext cx="304920" cy="3809880"/>
          </a:xfrm>
          <a:prstGeom prst="upArrow">
            <a:avLst>
              <a:gd name="adj1" fmla="val 50000"/>
              <a:gd name="adj2" fmla="val 31236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 flipH="1" rot="8748000">
            <a:off x="4134960" y="982080"/>
            <a:ext cx="304920" cy="3886200"/>
          </a:xfrm>
          <a:prstGeom prst="upArrow">
            <a:avLst>
              <a:gd name="adj1" fmla="val 50000"/>
              <a:gd name="adj2" fmla="val 318625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 flipV="1" rot="5400000">
            <a:off x="4648320" y="3657600"/>
            <a:ext cx="304560" cy="13716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56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Prepar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0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 flipH="1" rot="8904000">
            <a:off x="4494600" y="609480"/>
            <a:ext cx="304920" cy="2895840"/>
          </a:xfrm>
          <a:prstGeom prst="upArrow">
            <a:avLst>
              <a:gd name="adj1" fmla="val 50000"/>
              <a:gd name="adj2" fmla="val 2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 flipV="1" rot="16200000">
            <a:off x="4495680" y="30384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 flipV="1" rot="8904000">
            <a:off x="4647600" y="1218600"/>
            <a:ext cx="304560" cy="2895840"/>
          </a:xfrm>
          <a:prstGeom prst="upArrow">
            <a:avLst>
              <a:gd name="adj1" fmla="val 50000"/>
              <a:gd name="adj2" fmla="val 23770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s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673" name=""/>
          <p:cNvSpPr/>
          <p:nvPr/>
        </p:nvSpPr>
        <p:spPr>
          <a:xfrm flipV="1" rot="5400000">
            <a:off x="4647960" y="608400"/>
            <a:ext cx="304920" cy="1371600"/>
          </a:xfrm>
          <a:prstGeom prst="upArrow">
            <a:avLst>
              <a:gd name="adj1" fmla="val 50000"/>
              <a:gd name="adj2" fmla="val 112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ommitted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266688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2057400"/>
            <a:ext cx="304920" cy="1676520"/>
          </a:xfrm>
          <a:prstGeom prst="upArrow">
            <a:avLst>
              <a:gd name="adj1" fmla="val 50000"/>
              <a:gd name="adj2" fmla="val 13745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CreateCoordiationContext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905120" y="1905120"/>
            <a:ext cx="304560" cy="1676160"/>
          </a:xfrm>
          <a:prstGeom prst="upArrow">
            <a:avLst>
              <a:gd name="adj1" fmla="val 50000"/>
              <a:gd name="adj2" fmla="val 137589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86ea4"/>
                </a:solidFill>
                <a:latin typeface="Tahoma"/>
              </a:rPr>
              <a:t>Completion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2057400"/>
            <a:ext cx="304560" cy="1676520"/>
          </a:xfrm>
          <a:prstGeom prst="upArrow">
            <a:avLst>
              <a:gd name="adj1" fmla="val 50000"/>
              <a:gd name="adj2" fmla="val 137618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3429000" y="1905120"/>
            <a:ext cx="304920" cy="1676160"/>
          </a:xfrm>
          <a:prstGeom prst="upArrow">
            <a:avLst>
              <a:gd name="adj1" fmla="val 50000"/>
              <a:gd name="adj2" fmla="val 137426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 flipV="1" rot="12712200">
            <a:off x="4460400" y="1534320"/>
            <a:ext cx="304920" cy="2865600"/>
          </a:xfrm>
          <a:prstGeom prst="upArrow">
            <a:avLst>
              <a:gd name="adj1" fmla="val 50000"/>
              <a:gd name="adj2" fmla="val 234947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186ea4"/>
                </a:solidFill>
                <a:latin typeface="Tahoma"/>
              </a:rPr>
              <a:t>ApplicRequest</a:t>
            </a: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CoordinationContext in header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flipV="1" rot="6259200">
            <a:off x="4302360" y="1052640"/>
            <a:ext cx="304560" cy="2362320"/>
          </a:xfrm>
          <a:prstGeom prst="upArrow">
            <a:avLst>
              <a:gd name="adj1" fmla="val 50000"/>
              <a:gd name="adj2" fmla="val 19391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6ea4"/>
                </a:solidFill>
                <a:latin typeface="Tahoma"/>
              </a:rPr>
              <a:t>2PC</a:t>
            </a:r>
            <a:endParaRPr b="0" lang="en-US" sz="28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 flipV="1" rot="16811400">
            <a:off x="4113000" y="987480"/>
            <a:ext cx="304560" cy="2137320"/>
          </a:xfrm>
          <a:prstGeom prst="upArrow">
            <a:avLst>
              <a:gd name="adj1" fmla="val 50000"/>
              <a:gd name="adj2" fmla="val 175443"/>
            </a:avLst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520560" y="5333760"/>
            <a:ext cx="8623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86ea4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186ea4"/>
                </a:solidFill>
                <a:latin typeface="Tahoma"/>
              </a:rPr>
              <a:t>RegisterResponse Message</a:t>
            </a:r>
            <a:endParaRPr b="0" lang="en-US" sz="3200" spc="-1" strike="noStrike">
              <a:solidFill>
                <a:srgbClr val="186ea4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1295280" y="685800"/>
            <a:ext cx="2667240" cy="12193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ordin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3733920"/>
            <a:ext cx="2667240" cy="15238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86400" y="68580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86400" y="3124080"/>
            <a:ext cx="1676520" cy="2133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sourc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08448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22360" y="17906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46600" y="118116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70480" y="8762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70480" y="14860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46600" y="422928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03600" y="36194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70480" y="39243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70480" y="45338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70480" y="209556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70480" y="331488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148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60600" y="1790640"/>
            <a:ext cx="23004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465360" y="3619440"/>
            <a:ext cx="230400" cy="228600"/>
          </a:xfrm>
          <a:prstGeom prst="ellipse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828800"/>
            <a:ext cx="144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18288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581280" y="18414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674720" y="3657600"/>
            <a:ext cx="1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6840" y="365760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98960" y="367020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038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86200" y="98424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5410080" y="130176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410080" y="1910880"/>
            <a:ext cx="152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37339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10080" y="434340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410080" y="2514600"/>
            <a:ext cx="152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10080" y="49528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tuart Wheater</cp:lastModifiedBy>
  <dcterms:modified xsi:type="dcterms:W3CDTF">2003-03-30T23:37:18Z</dcterms:modified>
  <cp:revision>35</cp:revision>
  <dc:subject/>
  <dc:title>PowerPoint Presentation</dc:title>
</cp:coreProperties>
</file>