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77E89-9A63-4E58-99D3-F90A7795F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3F00-D8CE-411A-B165-1083C0CBA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DD4A-84BB-48B0-B480-0823E07EA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63FF-B35C-49F5-AFBB-F4FCD5838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4E87-37E2-4FED-8BA8-0AAD6554E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31E9-41EA-4A79-AE03-0B0B1C339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5AC5-C70E-4F7D-9580-35EF66205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B0EF-711E-4524-AA09-94EFC4528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132F-1A34-47A1-A3A2-5EB919513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2105-286F-41DA-B6C4-DD1E1B313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358B-F3E6-4734-B205-09632F7DA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6125-77AC-4B1B-897C-E7C0128F0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29D4-DCC9-4D1F-91D8-B5EB00B0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137EA-6641-404F-ABE7-A9E15ECDFB5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, come up with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inim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quirements and write just enough code to satisfy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8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11T09:03:15Z</dcterms:modified>
  <cp:revision>33</cp:revision>
  <dc:subject/>
  <dc:title>Slf4j &amp; logback projects</dc:title>
</cp:coreProperties>
</file>