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9361-813F-4B95-AF91-79CCC770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546-006F-4576-88DE-CA4D3BB8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52D-2FB3-4630-B9BC-24328BA4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65A-58F2-4D1A-9A6C-007167AE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F18-0DA8-4A02-AFBC-340F0A63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C95-1B40-4807-9ED1-CF3BF57A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991-F845-4D02-AC7E-0F0AB5D2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D1F-688A-4175-83A5-21F93210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429-B00A-4095-9E33-349617E5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9BF-C93D-4DC1-ABEA-C0876FE5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204-CB35-45D9-A70D-EAAD3805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DA2-25AD-4C50-B6BC-2F7E7382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445-89AA-41B7-AD44-01246AE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D24F-28A0-4AEA-9486-3D5CE9DE4C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11T09:03:15Z</dcterms:modified>
  <cp:revision>33</cp:revision>
  <dc:subject/>
  <dc:title>Slf4j &amp; logback projects</dc:title>
</cp:coreProperties>
</file>