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AE46F-C878-4879-90B2-28B5B60140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BD443-1B7C-41E3-B08E-52FC2D5D23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48E2E-D52B-4A31-80E6-F832FFFA99C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C68FEB-C65A-4280-B268-7520C225D1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C09B0C-803F-43D2-A899-D9E607AC7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45F2B-D89E-4D81-8C5A-F26CD83605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8AAF-F737-417F-A313-C62ADDA4BA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A27FB-8900-4688-A535-2C7728277D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10CD5-4826-4E53-9AE8-8C937519BA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F4E17-FCEA-41A1-9F87-3AAACDD14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E576-6B03-49AC-AE75-2A38729304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79BA1C-CFE0-42F7-9D3C-3D8ADFBCD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B6C5F5-38E7-4088-AF76-D2A7772149F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4.png"/><Relationship Id="rId5" Type="http://schemas.openxmlformats.org/officeDocument/2006/relationships/oleObject" Target="../embeddings/oleObject3.bin"/><Relationship Id="rId6" Type="http://schemas.openxmlformats.org/officeDocument/2006/relationships/image" Target="../media/image5.png"/><Relationship Id="rId7" Type="http://schemas.openxmlformats.org/officeDocument/2006/relationships/oleObject" Target="../embeddings/oleObject4.bin"/><Relationship Id="rId8" Type="http://schemas.openxmlformats.org/officeDocument/2006/relationships/image" Target="../media/image6.png"/><Relationship Id="rId9" Type="http://schemas.openxmlformats.org/officeDocument/2006/relationships/oleObject" Target="../embeddings/oleObject5.bin"/><Relationship Id="rId10" Type="http://schemas.openxmlformats.org/officeDocument/2006/relationships/image" Target="../media/image7.png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0" y="0"/>
          <a:ext cx="6858000" cy="4498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44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" name=""/>
          <p:cNvSpPr/>
          <p:nvPr/>
        </p:nvSpPr>
        <p:spPr>
          <a:xfrm>
            <a:off x="1143000" y="1676520"/>
            <a:ext cx="1752480" cy="30456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819520" y="1143000"/>
            <a:ext cx="121896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Default Target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“</a:t>
            </a: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all browsers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 flipV="1">
            <a:off x="2438280" y="1447560"/>
            <a:ext cx="381240" cy="2286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1143000" y="2514600"/>
            <a:ext cx="16765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3124080" y="2286000"/>
            <a:ext cx="4114800" cy="2764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java CDU at instances of the &lt;scontent&gt; elem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flipH="1">
            <a:off x="2743200" y="2438280"/>
            <a:ext cx="380880" cy="1526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9" name=""/>
          <p:cNvGraphicFramePr/>
          <p:nvPr/>
        </p:nvGraphicFramePr>
        <p:xfrm>
          <a:off x="0" y="0"/>
          <a:ext cx="6858000" cy="58896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0"/>
                    <a:ext cx="6858000" cy="5889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1" name=""/>
          <p:cNvSpPr/>
          <p:nvPr/>
        </p:nvSpPr>
        <p:spPr>
          <a:xfrm>
            <a:off x="1219320" y="243828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97180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“wml” profile browsers on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flipV="1">
            <a:off x="1905120" y="1676520"/>
            <a:ext cx="1218960" cy="7617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438280" y="2448000"/>
            <a:ext cx="1143000" cy="15228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5334120" y="12193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of conte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 flipV="1">
            <a:off x="3124080" y="1685520"/>
            <a:ext cx="2514600" cy="76212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914400" y="274320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6019920" y="197172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V="1">
            <a:off x="4343400" y="2437920"/>
            <a:ext cx="1981080" cy="38124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143000" y="4057560"/>
            <a:ext cx="1143000" cy="15264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4495680" y="2971800"/>
            <a:ext cx="16002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browser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V="1">
            <a:off x="1828800" y="3209400"/>
            <a:ext cx="2666880" cy="84780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219320" y="4200480"/>
            <a:ext cx="251460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5562720" y="3618000"/>
            <a:ext cx="2286000" cy="64152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Target this CDU at all elements defined “EMPTY” in the requesting browsers DT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3657600" y="3962520"/>
            <a:ext cx="1905120" cy="30456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1120" y="259092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1120" y="415908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1120" y="4921200"/>
            <a:ext cx="41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600" spc="-1" strike="noStrike">
                <a:solidFill>
                  <a:srgbClr val="ff3300"/>
                </a:solidFill>
                <a:latin typeface="Times New Roman"/>
              </a:rPr>
              <a:t>(3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914400" y="5181480"/>
            <a:ext cx="3505320" cy="228600"/>
          </a:xfrm>
          <a:prstGeom prst="ellipse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019920" y="4410000"/>
            <a:ext cx="2057400" cy="45900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IE" sz="1200" spc="-1" strike="noStrike">
                <a:solidFill>
                  <a:srgbClr val="ff3300"/>
                </a:solidFill>
                <a:latin typeface="Times New Roman"/>
              </a:rPr>
              <a:t>Supply the CDU instance with the named parame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4343400" y="4876920"/>
            <a:ext cx="1981080" cy="380880"/>
          </a:xfrm>
          <a:prstGeom prst="line">
            <a:avLst/>
          </a:prstGeom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2" name=""/>
          <p:cNvGraphicFramePr/>
          <p:nvPr/>
        </p:nvGraphicFramePr>
        <p:xfrm>
          <a:off x="428760" y="2133720"/>
          <a:ext cx="6200640" cy="1592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28760" y="2133720"/>
                    <a:ext cx="6200640" cy="15922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74" name=""/>
          <p:cNvGraphicFramePr/>
          <p:nvPr/>
        </p:nvGraphicFramePr>
        <p:xfrm>
          <a:off x="3174840" y="762120"/>
          <a:ext cx="838440" cy="40644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7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174840" y="762120"/>
                    <a:ext cx="838440" cy="406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76" name=""/>
          <p:cNvGraphicFramePr/>
          <p:nvPr/>
        </p:nvGraphicFramePr>
        <p:xfrm>
          <a:off x="7620120" y="2286000"/>
          <a:ext cx="1168200" cy="17524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77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620120" y="2286000"/>
                    <a:ext cx="1168200" cy="1752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78" name=""/>
          <p:cNvSpPr/>
          <p:nvPr/>
        </p:nvSpPr>
        <p:spPr>
          <a:xfrm>
            <a:off x="3556080" y="380880"/>
            <a:ext cx="0" cy="381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514240" y="838080"/>
            <a:ext cx="76212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657600" y="1066680"/>
            <a:ext cx="3809880" cy="1143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 flipH="1">
            <a:off x="6019920" y="236232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 flipH="1">
            <a:off x="6019920" y="2514600"/>
            <a:ext cx="1752480" cy="6094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6954480" y="2773440"/>
            <a:ext cx="35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IE" sz="1200" spc="-1" strike="noStrike">
                <a:solidFill>
                  <a:srgbClr val="000000"/>
                </a:solidFill>
                <a:latin typeface="Times New Roman"/>
              </a:rPr>
              <a:t>et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4" name=""/>
          <p:cNvGraphicFramePr/>
          <p:nvPr/>
        </p:nvGraphicFramePr>
        <p:xfrm>
          <a:off x="1523880" y="1379520"/>
          <a:ext cx="1067040" cy="3729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85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1523880" y="1379520"/>
                    <a:ext cx="1067040" cy="3729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6" name=""/>
          <p:cNvSpPr/>
          <p:nvPr/>
        </p:nvSpPr>
        <p:spPr>
          <a:xfrm>
            <a:off x="2286000" y="1447920"/>
            <a:ext cx="15228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87" name=""/>
          <p:cNvGraphicFramePr/>
          <p:nvPr/>
        </p:nvGraphicFramePr>
        <p:xfrm>
          <a:off x="2971800" y="152280"/>
          <a:ext cx="1081080" cy="219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88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2971800" y="152280"/>
                    <a:ext cx="1081080" cy="219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5-11T14:58:54Z</dcterms:created>
  <dc:creator>Tom Fennelly</dc:creator>
  <dc:description/>
  <dc:language>en-US</dc:language>
  <cp:lastModifiedBy>Tom Fennelly</cp:lastModifiedBy>
  <dcterms:modified xsi:type="dcterms:W3CDTF">2005-07-01T18:10:27Z</dcterms:modified>
  <cp:revision>27</cp:revision>
  <dc:subject/>
  <dc:title>PowerPoint Presentation</dc:title>
</cp:coreProperties>
</file>