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D60-2AE5-4C3E-A3B6-8AF37E22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8E82-27A9-4227-8556-4ADC7835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352-F093-4F02-915D-1E8AF665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6BB-E786-483A-8C8C-F67FF6AA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EFB-3085-49EE-A34F-3EAE5110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31E-F523-4900-BC1F-60759272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105B-D714-4E0F-B3D2-F32DDF62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B13C-5FA9-4333-AAAC-C16F79B9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05D0-BB62-4FF1-9F9B-087A50F8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7FF5-CC84-40B6-94B1-6F0F2071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A016-707A-46F9-8721-2E64E4A9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0BA-DF64-4818-B502-00F4F991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8FE5-62A4-40F0-989F-5A0C7E81A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92240" y="942840"/>
            <a:ext cx="9528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20:41:25Z</dcterms:created>
  <dc:creator>IBM_USER</dc:creator>
  <dc:description/>
  <dc:language>en-US</dc:language>
  <cp:lastModifiedBy>IBM_USER</cp:lastModifiedBy>
  <dcterms:modified xsi:type="dcterms:W3CDTF">2005-11-02T06:48:11Z</dcterms:modified>
  <cp:revision>4</cp:revision>
  <dc:subject/>
  <dc:title>Slide 1</dc:title>
</cp:coreProperties>
</file>