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085-220A-4954-9BE9-E71446E3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441-8A4D-4437-BCD4-A7FA407B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EC1-51FA-4048-B410-733006A0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D02-57D0-401A-AF62-3B941346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B57-909D-40E7-9016-ABF9D709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3425-6098-4AD7-8137-F3D11507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4D0-3F15-4A7A-945C-57644855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CE2-6E54-4736-BC25-30073A3E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5A6-26DB-4C22-9DE6-E8F78D07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8CF-EB6E-4669-839B-CDDE3B62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26B-EC4B-4539-89E2-B85DE2A2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D3D-92CB-4E32-84DF-5ED61A3A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7011-1415-440A-A323-6855372C9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92240" y="942840"/>
            <a:ext cx="9528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0:41:25Z</dcterms:created>
  <dc:creator>IBM_USER</dc:creator>
  <dc:description/>
  <dc:language>en-US</dc:language>
  <cp:lastModifiedBy>IBM_USER</cp:lastModifiedBy>
  <dcterms:modified xsi:type="dcterms:W3CDTF">2005-11-02T06:48:11Z</dcterms:modified>
  <cp:revision>4</cp:revision>
  <dc:subject/>
  <dc:title>Slide 1</dc:title>
</cp:coreProperties>
</file>