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25F-B0FF-4272-BF48-D2E566BF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CA9-3C5E-4469-8439-353490DE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25E-BD73-4A27-A1E9-CE4B07A3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174-563F-4449-BFE8-44F16038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D3D-D40B-40F4-A3D3-C973AB91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DE2-99D1-41C6-AE41-586608B3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570-3714-4B82-95B1-F1AAC54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63C-B57C-49BB-AD1A-39D012B3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AE1-73AB-4E3D-A76A-9BD7FAEF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F6D-884A-4909-B783-A8281B9C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0452-B063-435E-A567-53F94B4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74F-92FA-4778-B0AD-EC7E027F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4981-9C57-41DF-821F-3CED08A6D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09480"/>
            <a:ext cx="1295280" cy="60984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447920"/>
            <a:ext cx="1295280" cy="60948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2286000"/>
            <a:ext cx="1295280" cy="60948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 Out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3124080"/>
            <a:ext cx="1295280" cy="53352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609480"/>
            <a:ext cx="1828800" cy="609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ystem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1447920"/>
            <a:ext cx="1295640" cy="6094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286000"/>
            <a:ext cx="1600200" cy="6094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look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124080"/>
            <a:ext cx="1295640" cy="5335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9144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590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4290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0760" y="1752480"/>
            <a:ext cx="1754640" cy="1679040"/>
            <a:chOff x="7160760" y="1752480"/>
            <a:chExt cx="1754640" cy="1679040"/>
          </a:xfrm>
        </p:grpSpPr>
        <p:sp>
          <p:nvSpPr>
            <p:cNvPr id="54" name=""/>
            <p:cNvSpPr/>
            <p:nvPr/>
          </p:nvSpPr>
          <p:spPr>
            <a:xfrm>
              <a:off x="7162920" y="1752480"/>
              <a:ext cx="1752480" cy="1676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67480" y="2057400"/>
              <a:ext cx="1371240" cy="304560"/>
            </a:xfrm>
            <a:prstGeom prst="rect">
              <a:avLst/>
            </a:prstGeom>
            <a:solidFill>
              <a:srgbClr val="cc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dfExtr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7480" y="2438280"/>
              <a:ext cx="1371240" cy="304920"/>
            </a:xfrm>
            <a:prstGeom prst="rect">
              <a:avLst/>
            </a:prstGeom>
            <a:solidFill>
              <a:srgbClr val="cc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tmlExtr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67480" y="2819160"/>
              <a:ext cx="1371240" cy="304920"/>
            </a:xfrm>
            <a:prstGeom prst="rect">
              <a:avLst/>
            </a:prstGeom>
            <a:solidFill>
              <a:srgbClr val="cc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ordExtr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4440" y="297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60760" y="1752480"/>
              <a:ext cx="167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tractorRegis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00600" y="838080"/>
            <a:ext cx="1143000" cy="2590920"/>
          </a:xfrm>
          <a:prstGeom prst="rect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er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914400"/>
            <a:ext cx="10666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752480"/>
            <a:ext cx="10666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33920" y="213372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733920" y="2209320"/>
            <a:ext cx="10666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838080"/>
            <a:ext cx="1904760" cy="6098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meTypeIdent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1600" y="1812960"/>
            <a:ext cx="70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eam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990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5760" y="7462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943240" y="12952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3320" y="10666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6120" y="2422440"/>
            <a:ext cx="106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8195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3276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38000" y="2879640"/>
            <a:ext cx="109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-tex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/or 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4114800"/>
            <a:ext cx="4038840" cy="11430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45720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cen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572000"/>
            <a:ext cx="220968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ve RDF Reposi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4520" y="415908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ceneS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3429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8000" y="620640"/>
            <a:ext cx="1295280" cy="60984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1413000"/>
            <a:ext cx="1295280" cy="60948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2276640"/>
            <a:ext cx="1295280" cy="60948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 Outlo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3141720"/>
            <a:ext cx="1295280" cy="533520"/>
          </a:xfrm>
          <a:prstGeom prst="rect">
            <a:avLst/>
          </a:prstGeom>
          <a:solidFill>
            <a:srgbClr val="33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620640"/>
            <a:ext cx="1683000" cy="60984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eSystem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1413000"/>
            <a:ext cx="1683000" cy="6094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p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2276640"/>
            <a:ext cx="1683000" cy="6094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look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3141720"/>
            <a:ext cx="1683000" cy="5335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90792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1752480"/>
            <a:ext cx="17524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2057400"/>
            <a:ext cx="1371600" cy="3049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fEx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2438280"/>
            <a:ext cx="1371600" cy="3049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mlEx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7480" y="2819520"/>
            <a:ext cx="1371600" cy="30456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dEx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9444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1120" y="17524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ractorRegi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838080"/>
            <a:ext cx="1143000" cy="25909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er-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14400"/>
            <a:ext cx="106668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1752480"/>
            <a:ext cx="10666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33920" y="2133720"/>
            <a:ext cx="10666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33920" y="2209320"/>
            <a:ext cx="106668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838080"/>
            <a:ext cx="1904760" cy="60984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meTypeIdent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25800" y="1052640"/>
            <a:ext cx="70668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eam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990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7462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943240" y="12952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3320" y="10666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6120" y="2422440"/>
            <a:ext cx="106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stream +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ME ty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28195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943240" y="3276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5800" y="2852640"/>
            <a:ext cx="109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-tex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/or meta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114800"/>
            <a:ext cx="4038840" cy="11430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45720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cene 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4572000"/>
            <a:ext cx="2209680" cy="5335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data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7400" y="415764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torage (LuceneSa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4290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8000" y="3789360"/>
            <a:ext cx="1690560" cy="1727280"/>
            <a:chOff x="108000" y="3789360"/>
            <a:chExt cx="1690560" cy="1727280"/>
          </a:xfrm>
        </p:grpSpPr>
        <p:sp>
          <p:nvSpPr>
            <p:cNvPr id="116" name=""/>
            <p:cNvSpPr/>
            <p:nvPr/>
          </p:nvSpPr>
          <p:spPr>
            <a:xfrm>
              <a:off x="179280" y="4437000"/>
              <a:ext cx="1548000" cy="2872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r Data 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00" y="3789360"/>
              <a:ext cx="1690560" cy="17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lor leg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80" y="4797360"/>
              <a:ext cx="1548000" cy="289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r Glue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80" y="4078440"/>
              <a:ext cx="1548000" cy="288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erture Compon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80" y="5157720"/>
              <a:ext cx="1548000" cy="289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our Sto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403280" y="170028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03280" y="342900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19280" y="5493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54936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5493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13372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8720" y="364500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o Sauermann</cp:lastModifiedBy>
  <dcterms:modified xsi:type="dcterms:W3CDTF">2006-06-01T08:50:48Z</dcterms:modified>
  <cp:revision>10</cp:revision>
  <dc:subject/>
  <dc:title>PowerPoint Presentation</dc:title>
</cp:coreProperties>
</file>