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162-B1D1-4B36-9D14-8AD1FAEA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867-8BD1-4A81-B447-EF4D5FC2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7EF-F83A-46B4-A931-BEEAFDA1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69B-13FC-4728-9EF5-C3F663E4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ACB-CE39-4D6B-B231-89F378E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FA3-DF03-4299-BE35-A541966F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850-4A6F-4EE6-9A6C-5B434420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71F-15B6-492B-B9A5-E4C4FDC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3DC-5EB1-44A5-9889-54A51CC0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020-A910-4D70-B6F1-47D3D42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000-4274-4DCF-BEDE-F6A87991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782-63CA-47C4-B4DC-A32E7F8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67E8-8791-4A77-95D2-DC3C29293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2240" y="942840"/>
            <a:ext cx="9528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41:25Z</dcterms:created>
  <dc:creator>IBM_USER</dc:creator>
  <dc:description/>
  <dc:language>en-US</dc:language>
  <cp:lastModifiedBy>IBM_USER</cp:lastModifiedBy>
  <dcterms:modified xsi:type="dcterms:W3CDTF">2005-11-02T06:48:11Z</dcterms:modified>
  <cp:revision>4</cp:revision>
  <dc:subject/>
  <dc:title>Slide 1</dc:title>
</cp:coreProperties>
</file>