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2844-A5A3-4EA3-8359-45B15E8AE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EAB7-79F2-4815-9DF4-AA0D3794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5443-809A-4836-9700-0790EA529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54CD-BB94-4CC9-831D-4B59631E6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8D63-6EB5-42EA-8A50-57428DA6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69E8-2C5F-4EC8-B31B-17ADF2D2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4EB7-1F5E-4642-A39A-A89BD368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B1D2-586A-469F-B9B2-03B06851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D490-39A6-4392-8330-DD659FFF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A602-60F9-4324-B4BF-BDBA9994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57A3-33E0-49DC-AAC2-31ECAA6F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59D7-5CCB-4693-BBD4-F7704C81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8E23-DDB5-48AB-95F3-C2B79AAA3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92240" y="942840"/>
            <a:ext cx="952848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20:41:25Z</dcterms:created>
  <dc:creator>IBM_USER</dc:creator>
  <dc:description/>
  <dc:language>en-US</dc:language>
  <cp:lastModifiedBy>IBM_USER</cp:lastModifiedBy>
  <dcterms:modified xsi:type="dcterms:W3CDTF">2005-11-02T06:48:11Z</dcterms:modified>
  <cp:revision>4</cp:revision>
  <dc:subject/>
  <dc:title>Slide 1</dc:title>
</cp:coreProperties>
</file>