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DB74-FECD-4B8D-AC27-76864F81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25D-A63C-4F9C-9814-D7DFE5A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C15-28CD-4D0A-8062-7B1AB28C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A4A-E72A-4581-B7E9-6A1A47D1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DC30-8610-4757-BD56-E89C65AD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374-A5C1-4BCE-80E0-A324A925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6C4-D3BD-4BCD-BB73-8844C0AA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DE4-9686-43B3-93E7-4BBD5EBB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325-2F12-4983-9FFD-02E34D24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4C4-9792-4B3B-9483-C49D188C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C09-A52B-47B3-AF8E-EA7C857D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AB7-9B79-4469-B9A0-ED90BF0B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2EE0-9A3F-44F6-B904-938925F07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92240" y="942840"/>
            <a:ext cx="9528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0:41:25Z</dcterms:created>
  <dc:creator>IBM_USER</dc:creator>
  <dc:description/>
  <dc:language>en-US</dc:language>
  <cp:lastModifiedBy>IBM_USER</cp:lastModifiedBy>
  <dcterms:modified xsi:type="dcterms:W3CDTF">2005-11-02T06:48:11Z</dcterms:modified>
  <cp:revision>4</cp:revision>
  <dc:subject/>
  <dc:title>Slide 1</dc:title>
</cp:coreProperties>
</file>