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89B7-F7FF-45C2-B3E3-89856617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7369-19B7-4898-BA40-51D79FA6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F1CF-6119-46FF-8BFB-89CADE4E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2144-41DF-4BBD-9B44-A554E3DE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0CA9-7896-4CF1-B173-5A1464F0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61FA-D11A-485A-B092-662ABC54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DAE4-745D-4855-9424-A0C2FD64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B39C-04BC-4C0C-A700-A96EEE9D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BA80-4265-47E8-BF47-64653A35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119D-696B-4507-91B1-5777EDD0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CFF2-B564-4303-8E01-4023CFD6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2747-98F1-475E-9EA9-EDA8BA4D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WS-C/WS-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-360" y="6629040"/>
            <a:ext cx="2133720" cy="2430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2133720" cy="2570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A2C3-4C06-4A51-8451-4B82C5B1C737}" type="slidenum">
              <a:rPr b="1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65640" y="6643800"/>
            <a:ext cx="2466720" cy="2142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© 2003 Arjuna Technologies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6ea4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a4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juna_logo" descr=""/>
          <p:cNvPicPr/>
          <p:nvPr/>
        </p:nvPicPr>
        <p:blipFill>
          <a:blip r:embed="rId2"/>
          <a:stretch/>
        </p:blipFill>
        <p:spPr>
          <a:xfrm>
            <a:off x="1371600" y="290520"/>
            <a:ext cx="6400800" cy="62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01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 flipV="1" rot="5400000">
            <a:off x="4532760" y="2094840"/>
            <a:ext cx="304920" cy="2361960"/>
          </a:xfrm>
          <a:prstGeom prst="upArrow">
            <a:avLst>
              <a:gd name="adj1" fmla="val 50000"/>
              <a:gd name="adj2" fmla="val 193654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6200000">
            <a:off x="4304880" y="1333440"/>
            <a:ext cx="304560" cy="2361960"/>
          </a:xfrm>
          <a:prstGeom prst="upArrow">
            <a:avLst>
              <a:gd name="adj1" fmla="val 50000"/>
              <a:gd name="adj2" fmla="val 19388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C protocols: Activation &amp; Registr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T protocols: Completion, CompletionWithAck, 2PC, ZeroPhase &amp; OutcomeNotific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56320" y="2305080"/>
            <a:ext cx="42048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3276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5400" y="3067200"/>
            <a:ext cx="42084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1480" y="2514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057400"/>
            <a:ext cx="3657600" cy="1752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 flipH="1" rot="12721200">
            <a:off x="4645440" y="1533600"/>
            <a:ext cx="304920" cy="2960640"/>
          </a:xfrm>
          <a:prstGeom prst="upArrow">
            <a:avLst>
              <a:gd name="adj1" fmla="val 50000"/>
              <a:gd name="adj2" fmla="val 24273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 flipV="1" rot="16200000">
            <a:off x="4495680" y="335196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 flipV="1" rot="8607600">
            <a:off x="4265640" y="1675800"/>
            <a:ext cx="304920" cy="3809880"/>
          </a:xfrm>
          <a:prstGeom prst="upArrow">
            <a:avLst>
              <a:gd name="adj1" fmla="val 50000"/>
              <a:gd name="adj2" fmla="val 31236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 flipH="1" rot="8748000">
            <a:off x="4134960" y="982080"/>
            <a:ext cx="304920" cy="3886200"/>
          </a:xfrm>
          <a:prstGeom prst="upArrow">
            <a:avLst>
              <a:gd name="adj1" fmla="val 50000"/>
              <a:gd name="adj2" fmla="val 318625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 flipV="1" rot="5400000">
            <a:off x="4648320" y="3657600"/>
            <a:ext cx="304560" cy="1371600"/>
          </a:xfrm>
          <a:prstGeom prst="upArrow">
            <a:avLst>
              <a:gd name="adj1" fmla="val 50000"/>
              <a:gd name="adj2" fmla="val 112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66688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1905120"/>
            <a:ext cx="304560" cy="1676160"/>
          </a:xfrm>
          <a:prstGeom prst="upArrow">
            <a:avLst>
              <a:gd name="adj1" fmla="val 50000"/>
              <a:gd name="adj2" fmla="val 137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Completion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2057400"/>
            <a:ext cx="304560" cy="1676520"/>
          </a:xfrm>
          <a:prstGeom prst="upArrow">
            <a:avLst>
              <a:gd name="adj1" fmla="val 50000"/>
              <a:gd name="adj2" fmla="val 137618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2900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flipV="1" rot="12712200">
            <a:off x="4460400" y="1534320"/>
            <a:ext cx="304920" cy="2865600"/>
          </a:xfrm>
          <a:prstGeom prst="upArrow">
            <a:avLst>
              <a:gd name="adj1" fmla="val 50000"/>
              <a:gd name="adj2" fmla="val 23494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flipV="1" rot="6259200">
            <a:off x="4302360" y="1052640"/>
            <a:ext cx="304560" cy="2362320"/>
          </a:xfrm>
          <a:prstGeom prst="upArrow">
            <a:avLst>
              <a:gd name="adj1" fmla="val 50000"/>
              <a:gd name="adj2" fmla="val 19391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V="1" rot="16811400">
            <a:off x="4113000" y="987480"/>
            <a:ext cx="304560" cy="2137320"/>
          </a:xfrm>
          <a:prstGeom prst="upArrow">
            <a:avLst>
              <a:gd name="adj1" fmla="val 50000"/>
              <a:gd name="adj2" fmla="val 17544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art Wheater</cp:lastModifiedBy>
  <dcterms:modified xsi:type="dcterms:W3CDTF">2003-03-30T23:37:18Z</dcterms:modified>
  <cp:revision>35</cp:revision>
  <dc:subject/>
  <dc:title>PowerPoint Presentation</dc:title>
</cp:coreProperties>
</file>