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452-FFB8-49C7-BFD3-1AA43838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ABC-F6B6-472F-B6A9-5D6528E2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28B-2AF6-451F-B880-FD7FBBB0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85D-5DE6-4EE9-9B4A-7FE7AA45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8A2-1C8C-4350-B134-9426DC00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26F-949B-4A96-B953-C5AE8B8C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3C3-3ABA-4EA2-87BA-100E9080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B88-612B-4618-A916-DB6B9AB9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689-CE2D-4B0B-B2EE-324B0E56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6C9-05A7-4B73-9CA4-2386869E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617-417C-4ABE-985C-C18ACE5F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CDD-0F34-4130-9A36-758A4535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53F8-43C9-43FF-AFEE-B677BCA26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86600" y="2066760"/>
            <a:ext cx="990720" cy="1895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86600" y="4429080"/>
            <a:ext cx="990720" cy="189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512400" y="1752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2400" y="409896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16560" y="685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cents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171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ed CMP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dcb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3520" y="1006560"/>
            <a:ext cx="1114200" cy="1812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73360" y="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gister and Begin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53680" y="6699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886200" y="20574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477120" y="327672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477120" y="56595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200400" y="236232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886200" y="444816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3200400" y="4905360"/>
            <a:ext cx="609480" cy="512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91120" y="3381480"/>
            <a:ext cx="914400" cy="733320"/>
          </a:xfrm>
          <a:custGeom>
            <a:avLst/>
            <a:gdLst>
              <a:gd name="textAreaLeft" fmla="*/ 159840 w 914400"/>
              <a:gd name="textAreaRight" fmla="*/ 663120 w 9144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140004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ublic_Server:5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55911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2040" y="37735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2286000"/>
            <a:ext cx="1295640" cy="485640"/>
          </a:xfrm>
          <a:prstGeom prst="rightArrow">
            <a:avLst>
              <a:gd name="adj1" fmla="val 50000"/>
              <a:gd name="adj2" fmla="val 6669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2133720"/>
            <a:ext cx="1295640" cy="485640"/>
          </a:xfrm>
          <a:prstGeom prst="rightArrow">
            <a:avLst>
              <a:gd name="adj1" fmla="val 50000"/>
              <a:gd name="adj2" fmla="val 6669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819520"/>
            <a:ext cx="990720" cy="1019160"/>
          </a:xfrm>
          <a:custGeom>
            <a:avLst/>
            <a:gdLst>
              <a:gd name="textAreaLeft" fmla="*/ 0 w 990720"/>
              <a:gd name="textAreaRight" fmla="*/ 991080 w 9907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3244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86600" y="2066760"/>
            <a:ext cx="990720" cy="189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86600" y="4429080"/>
            <a:ext cx="990720" cy="1895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12400" y="1752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2400" y="409896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16560" y="685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cents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1171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ed CMP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dcb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381780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3520" y="1006560"/>
            <a:ext cx="1114200" cy="1812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7080" y="7632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e Call after Server1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53680" y="6699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886200" y="20574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477120" y="56595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3200400" y="24591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3886200" y="444816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3200400" y="4905360"/>
            <a:ext cx="609480" cy="512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191120" y="3381480"/>
            <a:ext cx="914400" cy="733320"/>
          </a:xfrm>
          <a:custGeom>
            <a:avLst/>
            <a:gdLst>
              <a:gd name="textAreaLeft" fmla="*/ 159840 w 914400"/>
              <a:gd name="textAreaRight" fmla="*/ 663120 w 9144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140004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ublic_Server:5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55911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2040" y="37735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6477120" y="3352680"/>
            <a:ext cx="581040" cy="497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2748000">
            <a:off x="5309640" y="360540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2133720"/>
            <a:ext cx="1295640" cy="485640"/>
          </a:xfrm>
          <a:prstGeom prst="rightArrow">
            <a:avLst>
              <a:gd name="adj1" fmla="val 50000"/>
              <a:gd name="adj2" fmla="val 6669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819520"/>
            <a:ext cx="990720" cy="1019160"/>
          </a:xfrm>
          <a:custGeom>
            <a:avLst/>
            <a:gdLst>
              <a:gd name="textAreaLeft" fmla="*/ 0 w 990720"/>
              <a:gd name="textAreaRight" fmla="*/ 991080 w 9907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34120" y="2133720"/>
            <a:ext cx="1295280" cy="761760"/>
            <a:chOff x="5334120" y="2133720"/>
            <a:chExt cx="1295280" cy="761760"/>
          </a:xfrm>
        </p:grpSpPr>
        <p:sp>
          <p:nvSpPr>
            <p:cNvPr id="92" name=""/>
            <p:cNvSpPr/>
            <p:nvPr/>
          </p:nvSpPr>
          <p:spPr>
            <a:xfrm>
              <a:off x="5334120" y="2286000"/>
              <a:ext cx="1295280" cy="485280"/>
            </a:xfrm>
            <a:prstGeom prst="rightArrow">
              <a:avLst>
                <a:gd name="adj1" fmla="val 50000"/>
                <a:gd name="adj2" fmla="val 66728"/>
              </a:avLst>
            </a:prstGeom>
            <a:solidFill>
              <a:srgbClr val="dd7d9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000" y="2133720"/>
              <a:ext cx="456840" cy="7617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715000" y="2133720"/>
              <a:ext cx="456840" cy="7617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3244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086600" y="2066760"/>
            <a:ext cx="990720" cy="1895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86600" y="4429080"/>
            <a:ext cx="990720" cy="1895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12400" y="1752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2400" y="409896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16560" y="685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cents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1171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ed CMP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1066680"/>
            <a:ext cx="2210040" cy="556272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5562720"/>
              <a:gd name="textAreaBottom" fmla="*/ 5455080 h 5562720"/>
            </a:gdLst>
            <a:ahLst/>
            <a:rect l="textAreaLeft" t="textAreaTop" r="textAreaRight" b="textAreaBottom"/>
            <a:pathLst>
              <a:path w="21600" h="54362">
                <a:moveTo>
                  <a:pt x="3600" y="0"/>
                </a:moveTo>
                <a:arcTo wR="3600" hR="3600" stAng="16200000" swAng="-5400000"/>
                <a:lnTo>
                  <a:pt x="0" y="50762"/>
                </a:lnTo>
                <a:arcTo wR="3600" hR="3600" stAng="10800000" swAng="-5400000"/>
                <a:lnTo>
                  <a:pt x="18000" y="543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dcb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33520" y="1006560"/>
            <a:ext cx="1114200" cy="1812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7080" y="763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e Call after LB1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3680" y="6699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886200" y="20574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6477120" y="56595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3886200" y="444816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3200400" y="4905360"/>
            <a:ext cx="609480" cy="51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00400" y="3809880"/>
            <a:ext cx="205740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ublic_Server:5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4479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ff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6477120" y="3352680"/>
            <a:ext cx="581040" cy="497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481640" y="24494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7480" y="48769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3200400" y="2514600"/>
            <a:ext cx="581040" cy="496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6520" y="411480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46400">
            <a:off x="1424160" y="320472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724280"/>
            <a:ext cx="1295640" cy="486000"/>
          </a:xfrm>
          <a:prstGeom prst="rightArrow">
            <a:avLst>
              <a:gd name="adj1" fmla="val 50000"/>
              <a:gd name="adj2" fmla="val 6664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9:51:18Z</dcterms:created>
  <dc:creator>Ivelin Ivanov</dc:creator>
  <dc:description/>
  <dc:language>en-US</dc:language>
  <cp:lastModifiedBy>Ivelin Ivanov</cp:lastModifiedBy>
  <dcterms:modified xsi:type="dcterms:W3CDTF">2005-07-03T20:54:17Z</dcterms:modified>
  <cp:revision>3</cp:revision>
  <dc:subject/>
  <dc:title>Slide 1</dc:title>
</cp:coreProperties>
</file>