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E93-D811-41A3-996F-9EE20B21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6C2-8F81-41AE-B758-82684A4D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7A2-9977-4B6C-997D-B12ACAEA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282-4FC9-498B-8FFE-AE0AFA1F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ADB-E40E-4102-9DA3-77120F30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7CF-4731-475E-A870-45A0BBAF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2FB-26ED-44AF-8AAC-A371F9F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C7A-0908-4516-907A-CE242CD0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280-D8D9-4A31-B723-998C616D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75C-7EE2-4F78-9FCC-EA81985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89D-BBEB-4596-B132-A1B5ED1B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A81-8E55-4CB4-8B49-AC84B29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370-033C-4E82-94C1-B89BC3220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59092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20040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3341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 m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2856960" y="3085920"/>
            <a:ext cx="1371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 End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5334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Depl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33412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B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800600"/>
            <a:ext cx="5486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60800" y="4800600"/>
            <a:ext cx="298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rvice / SBB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447920"/>
            <a:ext cx="9064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6760" y="1447920"/>
            <a:ext cx="9655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8520" y="914400"/>
            <a:ext cx="347724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LEE Management and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4440" y="838080"/>
            <a:ext cx="6705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41120" y="1447920"/>
            <a:ext cx="1258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209680"/>
            <a:ext cx="129528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276720"/>
            <a:ext cx="1447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 Depl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1600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114800"/>
            <a:ext cx="22860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B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600" y="3733920"/>
            <a:ext cx="90144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91120"/>
            <a:ext cx="914400" cy="53316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. 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1447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447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36560" y="6248520"/>
            <a:ext cx="1220040" cy="36828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8000" y="6248520"/>
            <a:ext cx="865080" cy="36828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b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2514600"/>
            <a:ext cx="3429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6483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9608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4840" y="36576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3920" y="281952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600520" y="300996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m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5320800" y="3373200"/>
            <a:ext cx="8668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625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120" y="2928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B Contex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1080" y="4267080"/>
            <a:ext cx="90144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4160" y="4930920"/>
            <a:ext cx="118368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B 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257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638680"/>
            <a:ext cx="16765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29000" y="36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019920"/>
            <a:ext cx="1143000" cy="30456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952880"/>
            <a:ext cx="1981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640" y="6437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538720" y="3262680"/>
            <a:ext cx="729360" cy="30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9096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93400" y="259092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BB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1320" y="3962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96120" y="363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component breakdown for a single SLE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981400" y="3085920"/>
            <a:ext cx="5334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(clustering)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3280" y="327672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880" y="129528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: Ev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 uses the publish/subscribe model for eve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Bs attach to and detach from activity contexts for eve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EE architecture does not allow SBBs to register themselves explicity as listeners of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 Activity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domain object to encapsulate Activity defined b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ent channel on which events are fired and deliver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shared state regarding th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many attachment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Bs only receive events from attach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981600"/>
            <a:ext cx="84013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delivery inside the S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35120" y="1752480"/>
            <a:ext cx="5726160" cy="4936320"/>
            <a:chOff x="1635120" y="1752480"/>
            <a:chExt cx="5726160" cy="4936320"/>
          </a:xfrm>
        </p:grpSpPr>
        <p:grpSp>
          <p:nvGrpSpPr>
            <p:cNvPr id="108" name=""/>
            <p:cNvGrpSpPr/>
            <p:nvPr/>
          </p:nvGrpSpPr>
          <p:grpSpPr>
            <a:xfrm>
              <a:off x="1635120" y="1947960"/>
              <a:ext cx="2392200" cy="4254480"/>
              <a:chOff x="1635120" y="1947960"/>
              <a:chExt cx="2392200" cy="425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1789200" y="1947960"/>
                <a:ext cx="2084400" cy="79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3880" y="1952640"/>
                <a:ext cx="2074680" cy="789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89200" y="1947960"/>
                <a:ext cx="208440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4640" y="21812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31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5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2856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63840" y="2181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53480" y="2181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801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5572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2440" y="2181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8100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59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8540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056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1752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53520" y="2181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93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476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28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1200" y="2181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2424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8580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5888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2064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93720" y="2340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28640" y="2340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18640" y="2340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4528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20520" y="2340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56160" y="23400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6668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37960" y="2340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03120" y="2340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6504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3740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940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81200" y="2960640"/>
                <a:ext cx="2298600" cy="9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85880" y="2965320"/>
                <a:ext cx="2289240" cy="987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81200" y="2960640"/>
                <a:ext cx="229860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18880" y="30607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973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697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428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7700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187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8860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23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246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776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3952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0324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7632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0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8180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5380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61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0176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34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0580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08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8572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5016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904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03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334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6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996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8404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211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9348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6512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01840" y="32194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8608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476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196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9524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3340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64720" y="32194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56520" y="3219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968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688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37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1428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85200" y="3219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3020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656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00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7312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020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811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5240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720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8416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252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5868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317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6812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055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7612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492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18592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737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4792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3684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254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5635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96680" y="337824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82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12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094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461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818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538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68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6360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5072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176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5368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7816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260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0380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682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01360" y="337824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072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244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65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7784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44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984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1368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364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4200" y="35370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3796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7612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117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8412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720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9212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8248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156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8688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5204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1900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5572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244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80640" y="3537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0872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8108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682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3912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7836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395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1048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49360" y="353700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2640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681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3908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1252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7624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4752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1448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50480" y="3537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764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484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28880" y="2741760"/>
                <a:ext cx="1800" cy="12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95760" y="2871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95760" y="2871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35120" y="4211640"/>
                <a:ext cx="2392200" cy="19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39800" y="4216320"/>
                <a:ext cx="2382840" cy="198144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35120" y="4211640"/>
                <a:ext cx="2392200" cy="19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47520" y="48020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600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983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714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05280" y="48020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981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6800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317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4037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77160" y="4802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18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822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5572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92440" y="48020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799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522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2464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9988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333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04280" y="4802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478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849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554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2676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91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5564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26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844280" y="1947960"/>
              <a:ext cx="5517000" cy="3658680"/>
              <a:chOff x="1844280" y="1947960"/>
              <a:chExt cx="5517000" cy="3658680"/>
            </a:xfrm>
          </p:grpSpPr>
          <p:sp>
            <p:nvSpPr>
              <p:cNvPr id="310" name=""/>
              <p:cNvSpPr/>
              <p:nvPr/>
            </p:nvSpPr>
            <p:spPr>
              <a:xfrm>
                <a:off x="359388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302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676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396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1132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4428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13040" y="4960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74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46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2220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5856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9672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302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32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364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0876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8328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578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63016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0144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73960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75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47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206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5596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5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1940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0652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968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325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05960" y="49608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459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14680" y="4960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79120" y="49608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6072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82440" y="49608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087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83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48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76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248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220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562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8716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45988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832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124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580480" y="5121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7408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007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52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5084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8684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14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880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1896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89880" y="51213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30920" y="51213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4288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1596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196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7608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484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52404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2832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9708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586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2920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048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40800" y="52801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840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1640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8012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524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2556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6192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968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6560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2680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9916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7296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08960" y="52801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492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212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96520" y="52801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206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9192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5888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9704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334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0772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7756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45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196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0500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6944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9824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306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9508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300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023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7580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013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726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60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763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141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476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199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9448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66120" y="5438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0788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7916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24432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1128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444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4167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9164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157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870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5400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28880" y="3952800"/>
                <a:ext cx="1800" cy="169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95760" y="4122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95760" y="4122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37200" y="1947960"/>
                <a:ext cx="222408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41880" y="1952640"/>
                <a:ext cx="2214720" cy="79524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37200" y="1947960"/>
                <a:ext cx="222408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32040" y="21067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105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58288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6559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9124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805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5288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4180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321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63480" y="210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5280" y="2106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9560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6796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4140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083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4508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807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527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2580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6108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4964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1624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52600" y="2106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7708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41520" y="2106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6888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272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671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5860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852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604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939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5663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4156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676840" y="22654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6540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3200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36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9284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728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8464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1848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80400" y="22654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718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438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944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529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42168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8612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242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5740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297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0428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98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1300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853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5988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329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053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4472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13480" y="242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6750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470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2264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5900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96800" y="242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9234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9868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3684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7248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1448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1792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52120" y="24256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29244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6480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040" y="2425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352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44440" y="2425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89440" y="2425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2508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9960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7196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396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1488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017960" y="2801880"/>
              <a:ext cx="1685880" cy="1409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75400" y="27478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0"/>
                  </a:moveTo>
                  <a:lnTo>
                    <a:pt x="26" y="50"/>
                  </a:lnTo>
                  <a:lnTo>
                    <a:pt x="0" y="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75400" y="27478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0"/>
                  </a:moveTo>
                  <a:lnTo>
                    <a:pt x="26" y="5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37200" y="3537000"/>
              <a:ext cx="2224080" cy="80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1880" y="3541680"/>
              <a:ext cx="2214720" cy="7938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7200" y="3537000"/>
              <a:ext cx="222408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70200" y="36162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2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192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9232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28320" y="36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686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406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162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93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20640" y="36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638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0128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718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438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187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07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638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0052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361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085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16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161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83480" y="36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450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170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926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308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33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5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805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580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9036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342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073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296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211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567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287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184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3640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763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487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243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62120" y="3774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884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29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385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7164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40760" y="3774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19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743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956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8628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219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9500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371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06600" y="3774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703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42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172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9028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06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6720" y="2747880"/>
              <a:ext cx="1800" cy="69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13600" y="3446640"/>
              <a:ext cx="64800" cy="90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21" y="5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13600" y="3446640"/>
              <a:ext cx="64800" cy="90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21" y="5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21" y="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52520" y="6445080"/>
              <a:ext cx="16718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5000" y="644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540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42320" y="64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3556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4212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8320" y="6445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13840" y="64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1176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18680" y="644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73400" y="6445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040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02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182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244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1400" y="644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864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2680" y="6445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5520" y="6415200"/>
              <a:ext cx="5018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7836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9040" y="6415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488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4520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572000" y="1752480"/>
              <a:ext cx="0" cy="472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209320" y="6248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09480" y="533520"/>
            <a:ext cx="8001000" cy="6095880"/>
            <a:chOff x="609480" y="533520"/>
            <a:chExt cx="8001000" cy="6095880"/>
          </a:xfrm>
        </p:grpSpPr>
        <p:sp>
          <p:nvSpPr>
            <p:cNvPr id="618" name=""/>
            <p:cNvSpPr/>
            <p:nvPr/>
          </p:nvSpPr>
          <p:spPr>
            <a:xfrm>
              <a:off x="609480" y="2819520"/>
              <a:ext cx="800100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9480" y="5562720"/>
              <a:ext cx="3200400" cy="60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: SIP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80" y="4343400"/>
              <a:ext cx="3200400" cy="1219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 Ada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33920" y="5638680"/>
              <a:ext cx="2133360" cy="762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57600" y="4572000"/>
              <a:ext cx="2514600" cy="762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y: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2209680" y="6172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133720" y="3276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62320" y="320040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(Activity ”SipServerTransaction”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type “javax.sip.request.REGISTER”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Object “SIPRequest”, Addres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800" y="1676520"/>
              <a:ext cx="3886200" cy="7617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yCo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3809520" y="2437920"/>
              <a:ext cx="685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4480" y="2438280"/>
              <a:ext cx="18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e-to-one relation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533520"/>
              <a:ext cx="198144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strarSb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066680" y="1142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0720" y="114300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Register(SIPRequest, SBBActivityContextInterf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567960" y="189000"/>
            <a:ext cx="106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servic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1143000"/>
            <a:ext cx="7315200" cy="19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3505320"/>
            <a:ext cx="3200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105520"/>
            <a:ext cx="80010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1752480"/>
            <a:ext cx="3962520" cy="1981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 Servic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37040" y="2286000"/>
            <a:ext cx="29718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 Sbb: RegistrarS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3704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13640" y="2819520"/>
            <a:ext cx="32364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event: javax.sip.request.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523880" y="5562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99120" y="56689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javax.sip.request.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267080" y="3124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1972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7800" y="446076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rocessInitialEv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1523880"/>
            <a:ext cx="1904760" cy="838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S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2362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142280" y="41148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on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9:01:35Z</dcterms:created>
  <dc:creator>Ranganathan</dc:creator>
  <dc:description/>
  <dc:language>en-US</dc:language>
  <cp:lastModifiedBy>Ranganathan</cp:lastModifiedBy>
  <dcterms:modified xsi:type="dcterms:W3CDTF">2004-06-19T03:20:49Z</dcterms:modified>
  <cp:revision>36</cp:revision>
  <dc:subject/>
  <dc:title>Slide 1</dc:title>
</cp:coreProperties>
</file>