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7B3-CA11-4A03-A89B-A5C1BCBA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CA1-34D1-48CE-AF82-9B282797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0BB8-F768-4E01-BDE7-F91F06A2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0D0-E941-4427-A16C-593B3A2E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FB1-82F7-4083-B3F6-E71D6BB5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CB3-1857-413A-A803-443E2CF6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CF0-14CE-465D-933D-D3881437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756-0F5D-48C0-9AC4-AC87AD9A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3CD-B6EC-4DC9-A094-EDCC0F11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13F-ED58-4B70-81E3-F6E221EE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82E-D0AD-446F-B32B-35DFB656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E95-F696-4683-9F93-5988BB74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5032-20FB-45B2-94F3-9C3F45B9E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590920"/>
            <a:ext cx="1447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.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3200400"/>
            <a:ext cx="1676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33412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 m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2856960" y="3085920"/>
            <a:ext cx="1371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EE End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53341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Deplo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533412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B 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4800600"/>
            <a:ext cx="5486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60800" y="4800600"/>
            <a:ext cx="2984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ervice / SBB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447920"/>
            <a:ext cx="9064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6760" y="1447920"/>
            <a:ext cx="96552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28520" y="914400"/>
            <a:ext cx="3477240" cy="3682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LEE Management and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4440" y="838080"/>
            <a:ext cx="67057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41120" y="1447920"/>
            <a:ext cx="12582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209680"/>
            <a:ext cx="1295280" cy="27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E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276720"/>
            <a:ext cx="144792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.A Deplo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514600"/>
            <a:ext cx="16002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4114800"/>
            <a:ext cx="22860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BB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600" y="3733920"/>
            <a:ext cx="901440" cy="27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c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4191120"/>
            <a:ext cx="914400" cy="533160"/>
          </a:xfrm>
          <a:prstGeom prst="rect">
            <a:avLst/>
          </a:prstGeom>
          <a:solidFill>
            <a:srgbClr val="f1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.A. j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52480" y="388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14479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144792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36560" y="6248520"/>
            <a:ext cx="1220040" cy="368280"/>
          </a:xfrm>
          <a:prstGeom prst="rect">
            <a:avLst/>
          </a:prstGeom>
          <a:solidFill>
            <a:srgbClr val="f1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.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08000" y="6248520"/>
            <a:ext cx="865080" cy="368280"/>
          </a:xfrm>
          <a:prstGeom prst="rect">
            <a:avLst/>
          </a:prstGeom>
          <a:solidFill>
            <a:srgbClr val="f1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b.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2514600"/>
            <a:ext cx="3429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648320" y="457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2133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696080" y="2133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4840" y="36576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3920" y="2819520"/>
            <a:ext cx="107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5600520" y="3009960"/>
            <a:ext cx="1447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m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5320800" y="3373200"/>
            <a:ext cx="8668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96252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858000" y="6019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352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120" y="29289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1148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B Context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21080" y="4267080"/>
            <a:ext cx="901440" cy="27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c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4160" y="4930920"/>
            <a:ext cx="118368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B 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5257800"/>
            <a:ext cx="1143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5638680"/>
            <a:ext cx="16765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29000" y="36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6019920"/>
            <a:ext cx="1143000" cy="304560"/>
          </a:xfrm>
          <a:prstGeom prst="rect">
            <a:avLst/>
          </a:prstGeom>
          <a:solidFill>
            <a:srgbClr val="f1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952880"/>
            <a:ext cx="19810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5640" y="6437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538720" y="3262680"/>
            <a:ext cx="729360" cy="307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79096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93400" y="2590920"/>
            <a:ext cx="155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BB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1320" y="3962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96120" y="36360"/>
            <a:ext cx="56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component breakdown for a single SLE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5981400" y="3085920"/>
            <a:ext cx="5334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(clustering)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3280" y="3276720"/>
            <a:ext cx="115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action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1523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880" y="1295280"/>
            <a:ext cx="115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action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ncepts: Even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 uses the publish/subscribe model for even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Bs attach to and detach from activity contexts for even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LEE architecture does not allow SBBs to register themselves explicity as listeners of a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ncepts Activity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domain object to encapsulate Activity defined b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vent channel on which events are fired and deliver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shared state regarding th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many attachment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BBs only receive events from attache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3981600"/>
            <a:ext cx="84013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age delivery inside the SL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635120" y="1752480"/>
            <a:ext cx="5726160" cy="4936320"/>
            <a:chOff x="1635120" y="1752480"/>
            <a:chExt cx="5726160" cy="4936320"/>
          </a:xfrm>
        </p:grpSpPr>
        <p:grpSp>
          <p:nvGrpSpPr>
            <p:cNvPr id="108" name=""/>
            <p:cNvGrpSpPr/>
            <p:nvPr/>
          </p:nvGrpSpPr>
          <p:grpSpPr>
            <a:xfrm>
              <a:off x="1635120" y="1947960"/>
              <a:ext cx="2392200" cy="4254480"/>
              <a:chOff x="1635120" y="1947960"/>
              <a:chExt cx="2392200" cy="425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1789200" y="1947960"/>
                <a:ext cx="2084400" cy="79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93880" y="1952640"/>
                <a:ext cx="2074680" cy="78912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89200" y="1947960"/>
                <a:ext cx="208440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04640" y="218124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8312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5548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428560" y="2181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463840" y="2181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53480" y="2181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8012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55720" y="2181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92440" y="2181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81000" y="2181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1592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85400" y="2181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50560" y="2181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17520" y="2181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53520" y="21812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9348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64760" y="2181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2848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01200" y="2181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24240" y="2181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85800" y="2181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458880" y="2181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42064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93720" y="2340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528640" y="23400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618640" y="23400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64528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720520" y="2340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56160" y="234000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6668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37960" y="2340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03120" y="2340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06504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3740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9400" y="2340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81200" y="2960640"/>
                <a:ext cx="2298600" cy="99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685880" y="2965320"/>
                <a:ext cx="2289240" cy="9874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681200" y="2960640"/>
                <a:ext cx="2298600" cy="9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018880" y="306072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09736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6972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4280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77000" y="30607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31876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88600" y="3060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5232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2468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97760" y="30607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639520" y="3060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70324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77632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1088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88180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5380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2616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10176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3488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05800" y="30607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5080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85720" y="3060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50160" y="30607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9048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6032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3340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66880" y="3060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39960" y="3060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8404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12112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19348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6512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301840" y="321948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86080" y="3219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4764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1964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9524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63340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64720" y="32194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56520" y="32194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9684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86884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4372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01428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85200" y="32194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13020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656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20004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27312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020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81120" y="3219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52400" y="3219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17200" y="3219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84160" y="3219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2520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5868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3176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6812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0556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7612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4920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185920" y="3378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7376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47920" y="3378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36840" y="3378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2540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56356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596680" y="3378240"/>
                <a:ext cx="110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69820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7128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0944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84616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8180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5380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02688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63600" y="33782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50720" y="3378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21768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53680" y="3378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278160" y="3378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42600" y="3378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37140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03800" y="3378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46824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01360" y="3378240"/>
                <a:ext cx="110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0720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682440" y="33782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06560" y="337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77840" y="3378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44440" y="337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77984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813680" y="3537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5364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24200" y="353700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03796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07612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11176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18412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5720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92120" y="35370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38248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41560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86880" y="3537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52040" y="3537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1900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5572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92440" y="35370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780640" y="35370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0872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881080" y="35370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96820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039120" y="3537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078360" y="3537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13956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10480" y="3537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249360" y="353700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326400" y="35370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6816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3908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512520" y="3537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57624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647520" y="35370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14480" y="35370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50480" y="35370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7640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848400" y="35370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28880" y="2741760"/>
                <a:ext cx="1800" cy="1299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795760" y="2871720"/>
                <a:ext cx="64800" cy="88920"/>
              </a:xfrm>
              <a:custGeom>
                <a:avLst/>
                <a:gdLst/>
                <a:ahLst/>
                <a:rect l="l" t="t" r="r" b="b"/>
                <a:pathLst>
                  <a:path w="41" h="56">
                    <a:moveTo>
                      <a:pt x="21" y="56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21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95760" y="2871720"/>
                <a:ext cx="64800" cy="88920"/>
              </a:xfrm>
              <a:custGeom>
                <a:avLst/>
                <a:gdLst/>
                <a:ahLst/>
                <a:rect l="l" t="t" r="r" b="b"/>
                <a:pathLst>
                  <a:path w="41" h="56">
                    <a:moveTo>
                      <a:pt x="21" y="56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21" y="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635120" y="4211640"/>
                <a:ext cx="2392200" cy="199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639800" y="4216320"/>
                <a:ext cx="2382840" cy="198144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635120" y="4211640"/>
                <a:ext cx="2392200" cy="19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47520" y="480204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600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9836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7144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05280" y="48020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9816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68000" y="48020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3172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40372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477160" y="4802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18920" y="48020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58228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65572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692440" y="480204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77992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5228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2464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99988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3336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04280" y="48020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14784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18492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5548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26760" y="48020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91920" y="48020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5564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526920" y="48020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844280" y="1947960"/>
              <a:ext cx="5517000" cy="3658680"/>
              <a:chOff x="1844280" y="1947960"/>
              <a:chExt cx="5517000" cy="3658680"/>
            </a:xfrm>
          </p:grpSpPr>
          <p:sp>
            <p:nvSpPr>
              <p:cNvPr id="310" name=""/>
              <p:cNvSpPr/>
              <p:nvPr/>
            </p:nvSpPr>
            <p:spPr>
              <a:xfrm>
                <a:off x="359388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63024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6768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39680" y="4802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11320" y="48020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84428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913040" y="49608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9746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466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2220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5856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9672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2302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0328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3364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40876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48328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5578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63016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70144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73960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7524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476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2068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55960" y="49608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524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119400" y="49608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06520" y="496080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96880" y="496080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33252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405960" y="49608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4592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514680" y="496080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579120" y="49608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60720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682440" y="496080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0872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83240" y="49608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13948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17692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24892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32200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5620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8716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459880" y="512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488320" y="512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51244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580480" y="51213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74080" y="512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0072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7524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5084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86840" y="512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1492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8800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1896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89880" y="51213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130920" y="512136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24288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31596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51960" y="51213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37608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448440" y="5121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524040" y="51213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12832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197080" y="52801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25864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32920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40480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440800" y="52801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48400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516400" y="52801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8012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65248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72556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76192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79684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865600" y="52801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2680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9916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7296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08960" y="52801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4928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22128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296520" y="52801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320640" y="528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391920" y="52801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45888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9704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33400" y="52801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0772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07756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14452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181960" y="5438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20500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269440" y="5438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9824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33064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9508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43000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50236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575800" y="5438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0136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67264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3960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77632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81412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4760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1996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9448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066120" y="54388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0788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7916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24432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1128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34440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41676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91640" y="5438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515760" y="543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587040" y="5438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654000" y="5438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828880" y="3952800"/>
                <a:ext cx="1800" cy="169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795760" y="4122720"/>
                <a:ext cx="64800" cy="88920"/>
              </a:xfrm>
              <a:custGeom>
                <a:avLst/>
                <a:gdLst/>
                <a:ahLst/>
                <a:rect l="l" t="t" r="r" b="b"/>
                <a:pathLst>
                  <a:path w="41" h="56">
                    <a:moveTo>
                      <a:pt x="21" y="56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21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795760" y="4122720"/>
                <a:ext cx="64800" cy="88920"/>
              </a:xfrm>
              <a:custGeom>
                <a:avLst/>
                <a:gdLst/>
                <a:ahLst/>
                <a:rect l="l" t="t" r="r" b="b"/>
                <a:pathLst>
                  <a:path w="41" h="56">
                    <a:moveTo>
                      <a:pt x="21" y="56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21" y="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137200" y="1947960"/>
                <a:ext cx="222408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141880" y="1952640"/>
                <a:ext cx="2214720" cy="79524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137200" y="1947960"/>
                <a:ext cx="2224080" cy="80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432040" y="210672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51052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58288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65596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691240" y="21067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78052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52880" y="21067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941800" y="21067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3216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63480" y="21067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55280" y="21067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9560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6796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341400" y="2106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40836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44508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48072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52720" y="21067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62580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661080" y="21067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749640" y="2106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81624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852600" y="21067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877080" y="2106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41520" y="21067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96888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002720" y="21067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067160" y="21067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58600" y="22654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8524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6048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49396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56632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64156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676840" y="226548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765400" y="2265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3200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68360" y="22654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92840" y="2265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57280" y="22654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98464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18480" y="2265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080400" y="22654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7184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24384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1944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5292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421680" y="2265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48612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52428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5740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62976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0428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79880" y="2265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1300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8536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95988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03296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105320" y="2265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4472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613480" y="2425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67504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74704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22640" y="242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59000" y="242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96800" y="24256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92344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998680" y="242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36840" y="242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7248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144840" y="24256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217920" y="24256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252120" y="24256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629244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6480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40040" y="2425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7352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44440" y="2425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89440" y="2425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2508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9960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77196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4396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14880" y="2425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017960" y="2801880"/>
              <a:ext cx="1685880" cy="1409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75400" y="2747880"/>
              <a:ext cx="88920" cy="79560"/>
            </a:xfrm>
            <a:custGeom>
              <a:avLst/>
              <a:gdLst/>
              <a:ahLst/>
              <a:rect l="l" t="t" r="r" b="b"/>
              <a:pathLst>
                <a:path w="56" h="50">
                  <a:moveTo>
                    <a:pt x="56" y="0"/>
                  </a:moveTo>
                  <a:lnTo>
                    <a:pt x="26" y="50"/>
                  </a:lnTo>
                  <a:lnTo>
                    <a:pt x="0" y="1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675400" y="2747880"/>
              <a:ext cx="88920" cy="79560"/>
            </a:xfrm>
            <a:custGeom>
              <a:avLst/>
              <a:gdLst/>
              <a:ahLst/>
              <a:rect l="l" t="t" r="r" b="b"/>
              <a:pathLst>
                <a:path w="56" h="50">
                  <a:moveTo>
                    <a:pt x="56" y="0"/>
                  </a:moveTo>
                  <a:lnTo>
                    <a:pt x="26" y="50"/>
                  </a:lnTo>
                  <a:lnTo>
                    <a:pt x="0" y="15"/>
                  </a:lnTo>
                  <a:lnTo>
                    <a:pt x="5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37200" y="3537000"/>
              <a:ext cx="2224080" cy="80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41880" y="3541680"/>
              <a:ext cx="2214720" cy="7938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37200" y="3537000"/>
              <a:ext cx="222408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70200" y="36162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472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192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9232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28320" y="36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686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8406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1624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936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20640" y="36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6384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10128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718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2438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1872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9072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6380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0052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3616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0852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68160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1616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83480" y="36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450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17040" y="36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9264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30800" y="36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3368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0568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805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5580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90360" y="3774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3428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073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8296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2112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567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287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0184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36400" y="3774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9763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487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12432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162120" y="37749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18840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629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3852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7164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40760" y="3774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50196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5743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4956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86280" y="3774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7219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95000" y="3774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8371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06600" y="3774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7032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4268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1720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90280" y="3774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30600" y="3774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46720" y="2747880"/>
              <a:ext cx="1800" cy="698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13600" y="3446640"/>
              <a:ext cx="64800" cy="9036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21" y="5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13600" y="3446640"/>
              <a:ext cx="64800" cy="9036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21" y="5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21" y="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52520" y="6445080"/>
              <a:ext cx="16718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95000" y="6445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3540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42320" y="64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63556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4212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48320" y="64450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913840" y="64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1176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18680" y="6445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73400" y="6445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0408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1028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1828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2448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31400" y="6445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86480" y="64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92680" y="64450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35520" y="6415200"/>
              <a:ext cx="5018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78360" y="6415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909040" y="6415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14880" y="6415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145200" y="6415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4572000" y="1752480"/>
              <a:ext cx="0" cy="4724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2209320" y="6248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609480" y="533520"/>
            <a:ext cx="8001000" cy="6095880"/>
            <a:chOff x="609480" y="533520"/>
            <a:chExt cx="8001000" cy="6095880"/>
          </a:xfrm>
        </p:grpSpPr>
        <p:sp>
          <p:nvSpPr>
            <p:cNvPr id="618" name=""/>
            <p:cNvSpPr/>
            <p:nvPr/>
          </p:nvSpPr>
          <p:spPr>
            <a:xfrm>
              <a:off x="609480" y="2819520"/>
              <a:ext cx="8001000" cy="457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tRou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9480" y="5562720"/>
              <a:ext cx="3200400" cy="609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: SIP St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480" y="4343400"/>
              <a:ext cx="3200400" cy="1219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 Adap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33920" y="5638680"/>
              <a:ext cx="2133360" cy="7621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657600" y="4572000"/>
              <a:ext cx="2514600" cy="7621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tivity:Trans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2209680" y="6172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2133720" y="32763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362320" y="3200400"/>
              <a:ext cx="5867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t (Activity ”SipServerTransaction”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t type “javax.sip.request.REGISTER”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entObject “SIPRequest”, Addres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5800" y="1676520"/>
              <a:ext cx="3886200" cy="7617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tivityCo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3809520" y="2437920"/>
              <a:ext cx="68580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04480" y="2438280"/>
              <a:ext cx="188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ne-to-one relations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9480" y="533520"/>
              <a:ext cx="198144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gistrarSb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1066680" y="114264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90720" y="1143000"/>
              <a:ext cx="73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Register(SIPRequest, SBBActivityContextInterfac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3567960" y="189000"/>
            <a:ext cx="106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l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service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1143000"/>
            <a:ext cx="7315200" cy="19810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33520" y="3505320"/>
            <a:ext cx="320040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5105520"/>
            <a:ext cx="80010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724280" y="1752480"/>
            <a:ext cx="3962520" cy="1981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r Servic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937040" y="2286000"/>
            <a:ext cx="2971800" cy="1143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ot Sbb: RegistrarS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37040" y="2666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913640" y="2819520"/>
            <a:ext cx="3236400" cy="307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itial event: javax.sip.request.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1523880" y="5562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99120" y="566892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javax.sip.request.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267080" y="3124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1972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637800" y="4460760"/>
            <a:ext cx="31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processInitialEven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90720" y="1523880"/>
            <a:ext cx="1904760" cy="838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rS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2590920" y="23623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142280" y="41148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on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9:01:35Z</dcterms:created>
  <dc:creator>Ranganathan</dc:creator>
  <dc:description/>
  <dc:language>en-US</dc:language>
  <cp:lastModifiedBy>Ranganathan</cp:lastModifiedBy>
  <dcterms:modified xsi:type="dcterms:W3CDTF">2004-06-19T03:20:49Z</dcterms:modified>
  <cp:revision>36</cp:revision>
  <dc:subject/>
  <dc:title>Slide 1</dc:title>
</cp:coreProperties>
</file>