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DF5-066E-409D-BA78-D78F462E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188-D5E7-47BC-B03C-EF1CF024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27E-C9FC-4466-931E-EE0D7A7C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ACF-A4B6-4723-8F58-FD27D5B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747-0D3A-47B4-B6B8-BFBC9BD3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6A0-4EA0-4A53-8D42-E2D10CC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984-5852-4F71-AA11-D6591E0E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F73-4798-4241-B852-7B61FD9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9DD-5C7C-455F-91B5-F8B65E4D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CFF-06C6-411C-88ED-0EF2094A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2FD-870A-4C3B-B2C4-F23CB28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292-7341-4F95-9C91-AE8AEA0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018-9E39-476E-8C6B-E7B8EFD2B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73360" y="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ister and Begi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477120" y="327672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200400" y="236232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3381480"/>
            <a:ext cx="914400" cy="733320"/>
          </a:xfrm>
          <a:custGeom>
            <a:avLst/>
            <a:gdLst>
              <a:gd name="textAreaLeft" fmla="*/ 159840 w 914400"/>
              <a:gd name="textAreaRight" fmla="*/ 663120 w 914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14000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5591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2040" y="37735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28600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13372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819520"/>
            <a:ext cx="990720" cy="1019160"/>
          </a:xfrm>
          <a:custGeom>
            <a:avLst/>
            <a:gdLst>
              <a:gd name="textAreaLeft" fmla="*/ 0 w 990720"/>
              <a:gd name="textAreaRight" fmla="*/ 991080 w 9907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8178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7080" y="7632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 Call after Server1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200400" y="24591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91120" y="3381480"/>
            <a:ext cx="914400" cy="733320"/>
          </a:xfrm>
          <a:custGeom>
            <a:avLst/>
            <a:gdLst>
              <a:gd name="textAreaLeft" fmla="*/ 159840 w 914400"/>
              <a:gd name="textAreaRight" fmla="*/ 663120 w 914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14000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591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2040" y="37735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6477120" y="3352680"/>
            <a:ext cx="581040" cy="497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748000">
            <a:off x="5309640" y="360540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133720"/>
            <a:ext cx="1295640" cy="485640"/>
          </a:xfrm>
          <a:prstGeom prst="rightArrow">
            <a:avLst>
              <a:gd name="adj1" fmla="val 50000"/>
              <a:gd name="adj2" fmla="val 6669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819520"/>
            <a:ext cx="990720" cy="1019160"/>
          </a:xfrm>
          <a:custGeom>
            <a:avLst/>
            <a:gdLst>
              <a:gd name="textAreaLeft" fmla="*/ 0 w 990720"/>
              <a:gd name="textAreaRight" fmla="*/ 991080 w 9907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4120" y="2133720"/>
            <a:ext cx="1295280" cy="761760"/>
            <a:chOff x="5334120" y="2133720"/>
            <a:chExt cx="1295280" cy="761760"/>
          </a:xfrm>
        </p:grpSpPr>
        <p:sp>
          <p:nvSpPr>
            <p:cNvPr id="92" name=""/>
            <p:cNvSpPr/>
            <p:nvPr/>
          </p:nvSpPr>
          <p:spPr>
            <a:xfrm>
              <a:off x="5334120" y="2286000"/>
              <a:ext cx="1295280" cy="485280"/>
            </a:xfrm>
            <a:prstGeom prst="rightArrow">
              <a:avLst>
                <a:gd name="adj1" fmla="val 50000"/>
                <a:gd name="adj2" fmla="val 66728"/>
              </a:avLst>
            </a:prstGeom>
            <a:solidFill>
              <a:srgbClr val="dd7d9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000" y="2133720"/>
              <a:ext cx="456840" cy="761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715000" y="2133720"/>
              <a:ext cx="456840" cy="7617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24480" y="1066680"/>
            <a:ext cx="2133720" cy="556272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5562720"/>
              <a:gd name="textAreaBottom" fmla="*/ 5458680 h 5562720"/>
            </a:gdLst>
            <a:ahLst/>
            <a:rect l="textAreaLeft" t="textAreaTop" r="textAreaRight" b="textAreaBottom"/>
            <a:pathLst>
              <a:path w="21600" h="56306">
                <a:moveTo>
                  <a:pt x="3600" y="0"/>
                </a:moveTo>
                <a:arcTo wR="3600" hR="3600" stAng="16200000" swAng="-5400000"/>
                <a:lnTo>
                  <a:pt x="0" y="52706"/>
                </a:lnTo>
                <a:arcTo wR="3600" hR="3600" stAng="10800000" swAng="-5400000"/>
                <a:lnTo>
                  <a:pt x="18000" y="5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86600" y="2066760"/>
            <a:ext cx="990720" cy="1895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86600" y="4429080"/>
            <a:ext cx="990720" cy="1895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12400" y="1752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2400" y="409896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 Serve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16560" y="685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cents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171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ed CMP 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066680"/>
            <a:ext cx="2210040" cy="556272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562720"/>
              <a:gd name="textAreaBottom" fmla="*/ 5455080 h 5562720"/>
            </a:gdLst>
            <a:ahLst/>
            <a:rect l="textAreaLeft" t="textAreaTop" r="textAreaRight" b="textAreaBottom"/>
            <a:pathLst>
              <a:path w="21600" h="54362">
                <a:moveTo>
                  <a:pt x="3600" y="0"/>
                </a:moveTo>
                <a:arcTo wR="3600" hR="3600" stAng="16200000" swAng="-5400000"/>
                <a:lnTo>
                  <a:pt x="0" y="50762"/>
                </a:lnTo>
                <a:arcTo wR="3600" hR="3600" stAng="10800000" swAng="-5400000"/>
                <a:lnTo>
                  <a:pt x="18000" y="54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fdcb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33520" y="1006560"/>
            <a:ext cx="1114200" cy="181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7080" y="763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 Call after LB1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3680" y="6699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477120" y="565956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3886200" y="444816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200400" y="4905360"/>
            <a:ext cx="609480" cy="51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00400" y="3809880"/>
            <a:ext cx="2057400" cy="5806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blic_Server:5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4479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f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6477120" y="3352680"/>
            <a:ext cx="581040" cy="497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481640" y="24494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7480" y="48769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3200400" y="2514600"/>
            <a:ext cx="581040" cy="49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6520" y="411480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46400">
            <a:off x="1424160" y="320472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724280"/>
            <a:ext cx="1295640" cy="486000"/>
          </a:xfrm>
          <a:prstGeom prst="rightArrow">
            <a:avLst>
              <a:gd name="adj1" fmla="val 50000"/>
              <a:gd name="adj2" fmla="val 66648"/>
            </a:avLst>
          </a:prstGeom>
          <a:solidFill>
            <a:srgbClr val="6ff53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51:18Z</dcterms:created>
  <dc:creator>Ivelin Ivanov</dc:creator>
  <dc:description/>
  <dc:language>en-US</dc:language>
  <cp:lastModifiedBy>Ivelin Ivanov</cp:lastModifiedBy>
  <dcterms:modified xsi:type="dcterms:W3CDTF">2005-07-03T20:54:17Z</dcterms:modified>
  <cp:revision>3</cp:revision>
  <dc:subject/>
  <dc:title>Slide 1</dc:title>
</cp:coreProperties>
</file>