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E15-2215-4D76-B85A-0AD10319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9B6-A4A3-447C-AD83-5AB5E837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289-97A9-4E33-AAC1-7752F38D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4E0-A6F4-4E6F-8153-5FBA6EBB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D83-851C-4953-99CC-714FFF0F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70B-9C43-4010-9DC8-37261EF2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89D-3C93-47BC-8775-D7F2F4D5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94B-E6F4-4DD1-B908-88B2C62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6A2-9463-4B02-B556-EA0E9D19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55E-FEFB-4770-9D30-AEED041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D4C-C448-4ECA-901A-888ECD8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FD8-9324-45BC-A945-90063A0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22CF-7EAC-4A78-B0B6-E3F4657A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73360" y="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ister and Begi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477120" y="327672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200400" y="236232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3381480"/>
            <a:ext cx="914400" cy="733320"/>
          </a:xfrm>
          <a:custGeom>
            <a:avLst/>
            <a:gdLst>
              <a:gd name="textAreaLeft" fmla="*/ 159840 w 914400"/>
              <a:gd name="textAreaRight" fmla="*/ 663120 w 914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14000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5591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2040" y="37735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28600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13372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819520"/>
            <a:ext cx="990720" cy="1019160"/>
          </a:xfrm>
          <a:custGeom>
            <a:avLst/>
            <a:gdLst>
              <a:gd name="textAreaLeft" fmla="*/ 0 w 990720"/>
              <a:gd name="textAreaRight" fmla="*/ 991080 w 9907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8178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7080" y="7632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 Call after Server1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200400" y="24591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91120" y="3381480"/>
            <a:ext cx="914400" cy="733320"/>
          </a:xfrm>
          <a:custGeom>
            <a:avLst/>
            <a:gdLst>
              <a:gd name="textAreaLeft" fmla="*/ 159840 w 914400"/>
              <a:gd name="textAreaRight" fmla="*/ 663120 w 914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4000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591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2040" y="37735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477120" y="3352680"/>
            <a:ext cx="581040" cy="497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748000">
            <a:off x="5309640" y="360540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13372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819520"/>
            <a:ext cx="990720" cy="1019160"/>
          </a:xfrm>
          <a:custGeom>
            <a:avLst/>
            <a:gdLst>
              <a:gd name="textAreaLeft" fmla="*/ 0 w 990720"/>
              <a:gd name="textAreaRight" fmla="*/ 991080 w 9907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4120" y="2133720"/>
            <a:ext cx="1295280" cy="761760"/>
            <a:chOff x="5334120" y="2133720"/>
            <a:chExt cx="1295280" cy="761760"/>
          </a:xfrm>
        </p:grpSpPr>
        <p:sp>
          <p:nvSpPr>
            <p:cNvPr id="92" name=""/>
            <p:cNvSpPr/>
            <p:nvPr/>
          </p:nvSpPr>
          <p:spPr>
            <a:xfrm>
              <a:off x="5334120" y="2286000"/>
              <a:ext cx="1295280" cy="485280"/>
            </a:xfrm>
            <a:prstGeom prst="rightArrow">
              <a:avLst>
                <a:gd name="adj1" fmla="val 50000"/>
                <a:gd name="adj2" fmla="val 66728"/>
              </a:avLst>
            </a:prstGeom>
            <a:solidFill>
              <a:srgbClr val="dd7d9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2133720"/>
              <a:ext cx="456840" cy="761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715000" y="2133720"/>
              <a:ext cx="456840" cy="761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066680"/>
            <a:ext cx="2210040" cy="556272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562720"/>
              <a:gd name="textAreaBottom" fmla="*/ 5455080 h 5562720"/>
            </a:gdLst>
            <a:ahLst/>
            <a:rect l="textAreaLeft" t="textAreaTop" r="textAreaRight" b="textAreaBottom"/>
            <a:pathLst>
              <a:path w="21600" h="54362">
                <a:moveTo>
                  <a:pt x="3600" y="0"/>
                </a:moveTo>
                <a:arcTo wR="3600" hR="3600" stAng="16200000" swAng="-5400000"/>
                <a:lnTo>
                  <a:pt x="0" y="50762"/>
                </a:lnTo>
                <a:arcTo wR="3600" hR="3600" stAng="10800000" swAng="-5400000"/>
                <a:lnTo>
                  <a:pt x="18000" y="54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7080" y="763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 Call after LB1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00400" y="3809880"/>
            <a:ext cx="205740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4479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f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6477120" y="3352680"/>
            <a:ext cx="581040" cy="497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481640" y="24494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7480" y="48769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3200400" y="2514600"/>
            <a:ext cx="581040" cy="49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6520" y="411480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46400">
            <a:off x="1424160" y="320472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724280"/>
            <a:ext cx="1295640" cy="486000"/>
          </a:xfrm>
          <a:prstGeom prst="rightArrow">
            <a:avLst>
              <a:gd name="adj1" fmla="val 50000"/>
              <a:gd name="adj2" fmla="val 6664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51:18Z</dcterms:created>
  <dc:creator>Ivelin Ivanov</dc:creator>
  <dc:description/>
  <dc:language>en-US</dc:language>
  <cp:lastModifiedBy>Ivelin Ivanov</cp:lastModifiedBy>
  <dcterms:modified xsi:type="dcterms:W3CDTF">2005-07-03T20:54:17Z</dcterms:modified>
  <cp:revision>3</cp:revision>
  <dc:subject/>
  <dc:title>Slide 1</dc:title>
</cp:coreProperties>
</file>