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4C1C-B75C-4F8C-92B0-A5DF3F79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2230-3745-45A1-A003-2534074E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095B-52BF-427C-9F74-9DECDFDC7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DCD5-474C-4117-9393-8DC4E85E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4CBD-6773-4B98-9891-20932DA0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6EDF-3A66-483E-AEF6-DD3745F1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742A-DBBC-4B0D-B803-569B1BD5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FC26-81AC-4938-8F7C-395B22B8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1C6C-06E1-4831-9654-9BEBE104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4E57-9C58-4E3D-BE09-BEE45C52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DA14-A352-4611-8766-E5D98F17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EF72-E689-4D79-8E6A-B8CEBBEC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AB24-F031-4665-A881-FB90428C1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2590920"/>
            <a:ext cx="1447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.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9880" y="3200400"/>
            <a:ext cx="1676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t Ro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334120"/>
            <a:ext cx="1066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ce mg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2856960" y="3085920"/>
            <a:ext cx="13716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EE End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533412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 Deplo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5334120"/>
            <a:ext cx="1219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BB p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4800600"/>
            <a:ext cx="54864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60800" y="4800600"/>
            <a:ext cx="2984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ervice / SBB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1447920"/>
            <a:ext cx="90648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36760" y="1447920"/>
            <a:ext cx="96552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28520" y="914400"/>
            <a:ext cx="3477240" cy="3682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LEE Management and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4440" y="838080"/>
            <a:ext cx="670572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41120" y="1447920"/>
            <a:ext cx="125820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24280" y="2133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209680"/>
            <a:ext cx="1295280" cy="276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EE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3276720"/>
            <a:ext cx="1447920" cy="30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.A Deplo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2514600"/>
            <a:ext cx="16002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05320" y="4114800"/>
            <a:ext cx="22860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BB 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832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97600" y="3733920"/>
            <a:ext cx="901440" cy="276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ct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95280" y="4191120"/>
            <a:ext cx="914400" cy="533160"/>
          </a:xfrm>
          <a:prstGeom prst="rect">
            <a:avLst/>
          </a:prstGeom>
          <a:solidFill>
            <a:srgbClr val="f1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.A. j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752480" y="3885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1447920"/>
            <a:ext cx="11430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1447920"/>
            <a:ext cx="9907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6688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36560" y="6248520"/>
            <a:ext cx="1220040" cy="368280"/>
          </a:xfrm>
          <a:prstGeom prst="rect">
            <a:avLst/>
          </a:prstGeom>
          <a:solidFill>
            <a:srgbClr val="f1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.j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08000" y="6248520"/>
            <a:ext cx="865080" cy="368280"/>
          </a:xfrm>
          <a:prstGeom prst="rect">
            <a:avLst/>
          </a:prstGeom>
          <a:solidFill>
            <a:srgbClr val="f1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bb.j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2514600"/>
            <a:ext cx="34290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648320" y="4571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21337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7696080" y="21337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4038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14840" y="365760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03920" y="2819520"/>
            <a:ext cx="107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5600520" y="3009960"/>
            <a:ext cx="1447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 m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5320800" y="3373200"/>
            <a:ext cx="86688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962520" y="6019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858000" y="6019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3352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120" y="292896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41148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BB Context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21080" y="4267080"/>
            <a:ext cx="901440" cy="276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ct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94160" y="4930920"/>
            <a:ext cx="1183680" cy="30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BB Fac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5257800"/>
            <a:ext cx="1143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5638680"/>
            <a:ext cx="16765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tim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29000" y="36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6019920"/>
            <a:ext cx="1143000" cy="304560"/>
          </a:xfrm>
          <a:prstGeom prst="rect">
            <a:avLst/>
          </a:prstGeom>
          <a:solidFill>
            <a:srgbClr val="f1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952880"/>
            <a:ext cx="198108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5640" y="64371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2538720" y="3262680"/>
            <a:ext cx="729360" cy="307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790960" y="4343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93400" y="2590920"/>
            <a:ext cx="1550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BB Run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1320" y="39625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96120" y="36360"/>
            <a:ext cx="56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component breakdown for a single SLEE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5981400" y="3085920"/>
            <a:ext cx="53341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tion (clustering)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63280" y="3276720"/>
            <a:ext cx="115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action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848720" y="1523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880" y="1295280"/>
            <a:ext cx="115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action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001000" y="5486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Concepts: Event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 uses the publish/subscribe model for event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BBs attach to and detach from activity contexts for event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LEE architecture does not allow SBBs to register themselves explicity as listeners of a re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Concepts Activity Con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E domain object to encapsulate Activity defined by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vent channel on which events are fired and delivered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s shared state regarding the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-to-many attachment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BBs only receive events from attached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80880" y="3981600"/>
            <a:ext cx="840132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sage delivery inside the SL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635120" y="1752480"/>
            <a:ext cx="5726160" cy="4936320"/>
            <a:chOff x="1635120" y="1752480"/>
            <a:chExt cx="5726160" cy="4936320"/>
          </a:xfrm>
        </p:grpSpPr>
        <p:grpSp>
          <p:nvGrpSpPr>
            <p:cNvPr id="108" name=""/>
            <p:cNvGrpSpPr/>
            <p:nvPr/>
          </p:nvGrpSpPr>
          <p:grpSpPr>
            <a:xfrm>
              <a:off x="1635120" y="1947960"/>
              <a:ext cx="2392200" cy="4254480"/>
              <a:chOff x="1635120" y="1947960"/>
              <a:chExt cx="2392200" cy="425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1789200" y="1947960"/>
                <a:ext cx="2084400" cy="799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793880" y="1952640"/>
                <a:ext cx="2074680" cy="78912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789200" y="1947960"/>
                <a:ext cx="2084400" cy="79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204640" y="2181240"/>
                <a:ext cx="8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283120" y="2181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355480" y="2181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428560" y="2181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463840" y="218124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553480" y="21812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580120" y="2181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655720" y="2181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692440" y="218124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781000" y="2181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815920" y="2181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885400" y="21812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950560" y="21812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017520" y="2181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53520" y="21812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093480" y="2181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164760" y="21812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228480" y="2181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301200" y="21812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24240" y="21812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385800" y="2181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458880" y="2181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420640" y="2340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493720" y="23400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528640" y="234000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618640" y="234000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645280" y="2340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720520" y="23400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756160" y="234000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866680" y="2340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937960" y="234000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003120" y="234000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065040" y="2340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137400" y="2340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9400" y="2340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681200" y="2960640"/>
                <a:ext cx="2298600" cy="99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685880" y="2965320"/>
                <a:ext cx="2289240" cy="98748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681200" y="2960640"/>
                <a:ext cx="2298600" cy="99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018880" y="3060720"/>
                <a:ext cx="8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097360" y="3060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169720" y="3060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242800" y="3060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277000" y="306072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318760" y="3060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388600" y="30607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452320" y="3060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524680" y="3060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597760" y="306072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639520" y="30607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703240" y="3060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776320" y="3060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810880" y="3060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881800" y="3060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953800" y="3060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026160" y="3060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101760" y="3060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134880" y="3060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205800" y="306072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250800" y="3060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285720" y="30607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350160" y="306072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390480" y="3060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460320" y="3060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533400" y="3060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566880" y="3060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39960" y="3060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084040" y="3219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121120" y="3219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193480" y="3219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265120" y="3219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301840" y="321948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386080" y="32194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447640" y="3219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519640" y="3219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595240" y="3219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633400" y="3219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664720" y="32194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756520" y="321948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796840" y="3219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868840" y="3219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943720" y="3219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014280" y="3219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085200" y="321948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130200" y="3219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6560" y="3219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200040" y="3219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273120" y="3219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310200" y="3219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381120" y="3219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452400" y="32194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517200" y="32194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584160" y="3219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825200" y="3378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858680" y="3378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931760" y="3378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968120" y="3378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005560" y="3378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076120" y="3378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149200" y="3378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185920" y="337824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273760" y="3378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347920" y="337824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436840" y="337824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525400" y="3378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563560" y="3378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596680" y="3378240"/>
                <a:ext cx="110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698200" y="3378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771280" y="3378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809440" y="3378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846160" y="3378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881800" y="3378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953800" y="3378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026880" y="3378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063600" y="337824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150720" y="33782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217680" y="3378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253680" y="33782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278160" y="33782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342600" y="33782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371400" y="3378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403800" y="33782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468240" y="3378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501360" y="3378240"/>
                <a:ext cx="110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607200" y="3378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682440" y="33782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706560" y="3378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777840" y="33782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844440" y="3378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779840" y="35370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813680" y="353700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853640" y="3537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924200" y="353700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037960" y="35370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076120" y="35370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111760" y="3537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184120" y="3537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257200" y="35370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292120" y="353700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382480" y="35370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415600" y="3537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486880" y="353700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552040" y="353700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619000" y="35370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655720" y="35370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692440" y="353700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780640" y="353700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808720" y="3537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881080" y="353700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968200" y="3537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039120" y="353700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078360" y="353700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139560" y="3537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210480" y="353700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249360" y="3537000"/>
                <a:ext cx="8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326400" y="353700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368160" y="3537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439080" y="3537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512520" y="353700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576240" y="3537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647520" y="353700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714480" y="35370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750480" y="353700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776400" y="3537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848400" y="3537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828880" y="2741760"/>
                <a:ext cx="1800" cy="1299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795760" y="2871720"/>
                <a:ext cx="64800" cy="88920"/>
              </a:xfrm>
              <a:custGeom>
                <a:avLst/>
                <a:gdLst/>
                <a:ahLst/>
                <a:rect l="l" t="t" r="r" b="b"/>
                <a:pathLst>
                  <a:path w="41" h="56">
                    <a:moveTo>
                      <a:pt x="21" y="56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21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795760" y="2871720"/>
                <a:ext cx="64800" cy="88920"/>
              </a:xfrm>
              <a:custGeom>
                <a:avLst/>
                <a:gdLst/>
                <a:ahLst/>
                <a:rect l="l" t="t" r="r" b="b"/>
                <a:pathLst>
                  <a:path w="41" h="56">
                    <a:moveTo>
                      <a:pt x="21" y="56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21" y="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635120" y="4211640"/>
                <a:ext cx="2392200" cy="199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639800" y="4216320"/>
                <a:ext cx="2382840" cy="198144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635120" y="4211640"/>
                <a:ext cx="2392200" cy="19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847520" y="4802040"/>
                <a:ext cx="8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26000" y="4802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98360" y="4802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071440" y="4802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105280" y="48020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198160" y="4802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68000" y="48020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331720" y="4802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403720" y="4802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477160" y="48020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518920" y="48020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582280" y="4802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655720" y="4802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692440" y="480204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779920" y="4802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852280" y="4802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924640" y="4802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999880" y="4802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033360" y="4802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104280" y="48020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147840" y="4802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184920" y="4802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255480" y="4802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326760" y="48020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91920" y="48020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455640" y="4802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526920" y="48020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1844280" y="1947960"/>
              <a:ext cx="5517000" cy="3658680"/>
              <a:chOff x="1844280" y="1947960"/>
              <a:chExt cx="5517000" cy="3658680"/>
            </a:xfrm>
          </p:grpSpPr>
          <p:sp>
            <p:nvSpPr>
              <p:cNvPr id="310" name=""/>
              <p:cNvSpPr/>
              <p:nvPr/>
            </p:nvSpPr>
            <p:spPr>
              <a:xfrm>
                <a:off x="3593880" y="4802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630240" y="4802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667680" y="4802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739680" y="4802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811320" y="4802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844280" y="496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913040" y="496080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974600" y="496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046600" y="496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122200" y="496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158560" y="496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196720" y="496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230200" y="496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303280" y="496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336400" y="496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408760" y="496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483280" y="496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557800" y="496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630160" y="496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701440" y="496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739600" y="496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775240" y="496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847600" y="496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920680" y="496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955960" y="496080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5240" y="496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119400" y="496080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206520" y="496080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296880" y="496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332520" y="496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405960" y="496080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445920" y="496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514680" y="496080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579120" y="496080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607200" y="496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682440" y="496080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708720" y="496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783240" y="496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139480" y="51213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176920" y="512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248920" y="512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322000" y="51213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356200" y="51213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387160" y="512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459880" y="512136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488320" y="512136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512440" y="512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580480" y="512136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674080" y="512136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700720" y="512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775240" y="512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850840" y="51213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886840" y="512136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914920" y="512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988000" y="51213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018960" y="512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89880" y="512136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130920" y="512136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242880" y="512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315960" y="51213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351960" y="512136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376080" y="512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448440" y="512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524040" y="51213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128320" y="528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197080" y="52801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258640" y="528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329200" y="528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404800" y="52801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440800" y="528012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484000" y="52801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516400" y="52801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580120" y="528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652480" y="528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725560" y="52801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761920" y="52801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796840" y="528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865600" y="52801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26800" y="528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999160" y="528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072960" y="52801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108960" y="528012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149280" y="528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221280" y="528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296520" y="528012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320640" y="528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391920" y="52801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458880" y="52801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497040" y="52801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33400" y="52801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007720" y="543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077560" y="5438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144520" y="5438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181960" y="543888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205000" y="5438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269440" y="543888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98240" y="5438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330640" y="5438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395080" y="5438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430000" y="543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502360" y="543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575800" y="543888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601360" y="543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672640" y="5438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739600" y="5438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776320" y="5438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814120" y="5438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847600" y="543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919960" y="543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994480" y="543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066120" y="543888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107880" y="543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179160" y="5438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244320" y="5438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311280" y="5438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344400" y="543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416760" y="543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491640" y="543888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515760" y="543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587040" y="5438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654000" y="5438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828880" y="3952800"/>
                <a:ext cx="1800" cy="1699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795760" y="4122720"/>
                <a:ext cx="64800" cy="88920"/>
              </a:xfrm>
              <a:custGeom>
                <a:avLst/>
                <a:gdLst/>
                <a:ahLst/>
                <a:rect l="l" t="t" r="r" b="b"/>
                <a:pathLst>
                  <a:path w="41" h="56">
                    <a:moveTo>
                      <a:pt x="21" y="56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21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795760" y="4122720"/>
                <a:ext cx="64800" cy="88920"/>
              </a:xfrm>
              <a:custGeom>
                <a:avLst/>
                <a:gdLst/>
                <a:ahLst/>
                <a:rect l="l" t="t" r="r" b="b"/>
                <a:pathLst>
                  <a:path w="41" h="56">
                    <a:moveTo>
                      <a:pt x="21" y="56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21" y="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137200" y="1947960"/>
                <a:ext cx="2224080" cy="80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141880" y="1952640"/>
                <a:ext cx="2214720" cy="79524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137200" y="1947960"/>
                <a:ext cx="2224080" cy="80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432040" y="2106720"/>
                <a:ext cx="8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510520" y="210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582880" y="210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655960" y="210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691240" y="210672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780520" y="210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852880" y="210672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941800" y="210672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032160" y="210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063480" y="21067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155280" y="210672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195600" y="210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267960" y="210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341400" y="21067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408360" y="210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445080" y="210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480720" y="210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552720" y="210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625800" y="210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661080" y="210672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749640" y="21067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816240" y="210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852600" y="210672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877080" y="21067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941520" y="210672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968880" y="210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002720" y="21067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067160" y="210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358600" y="226548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385240" y="2265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60480" y="2265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493960" y="2265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566320" y="2265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641560" y="2265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676840" y="226548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765400" y="22654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832000" y="2265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868360" y="226548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892840" y="22654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957280" y="226548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984640" y="2265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018480" y="22654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080400" y="22654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171840" y="2265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243840" y="2265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319440" y="2265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352920" y="2265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421680" y="22654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486120" y="2265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524280" y="2265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57400" y="2265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629760" y="2265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704280" y="2265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779880" y="2265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813000" y="2265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885360" y="2265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959880" y="2265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032960" y="2265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105320" y="2265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544720" y="24256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613480" y="24256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675040" y="24256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747040" y="24256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822640" y="24256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59000" y="24256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896800" y="242568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923440" y="24256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998680" y="24256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036840" y="24256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072480" y="24256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144840" y="24256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217920" y="24256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252120" y="242568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6292440" y="2425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364800" y="2425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440040" y="2425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73520" y="2425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544440" y="2425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589440" y="2425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625080" y="2425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699600" y="2425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771960" y="2425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843960" y="2425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14880" y="2425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4017960" y="2801880"/>
              <a:ext cx="1685880" cy="1409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675400" y="2747880"/>
              <a:ext cx="88920" cy="79560"/>
            </a:xfrm>
            <a:custGeom>
              <a:avLst/>
              <a:gdLst/>
              <a:ahLst/>
              <a:rect l="l" t="t" r="r" b="b"/>
              <a:pathLst>
                <a:path w="56" h="50">
                  <a:moveTo>
                    <a:pt x="56" y="0"/>
                  </a:moveTo>
                  <a:lnTo>
                    <a:pt x="26" y="50"/>
                  </a:lnTo>
                  <a:lnTo>
                    <a:pt x="0" y="1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675400" y="2747880"/>
              <a:ext cx="88920" cy="79560"/>
            </a:xfrm>
            <a:custGeom>
              <a:avLst/>
              <a:gdLst/>
              <a:ahLst/>
              <a:rect l="l" t="t" r="r" b="b"/>
              <a:pathLst>
                <a:path w="56" h="50">
                  <a:moveTo>
                    <a:pt x="56" y="0"/>
                  </a:moveTo>
                  <a:lnTo>
                    <a:pt x="26" y="50"/>
                  </a:lnTo>
                  <a:lnTo>
                    <a:pt x="0" y="15"/>
                  </a:lnTo>
                  <a:lnTo>
                    <a:pt x="5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137200" y="3537000"/>
              <a:ext cx="2224080" cy="80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141880" y="3541680"/>
              <a:ext cx="2214720" cy="79380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37200" y="3537000"/>
              <a:ext cx="222408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470200" y="36162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547240" y="36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19240" y="36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692320" y="36162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728320" y="36162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768640" y="36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840640" y="36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916240" y="36162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949360" y="36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020640" y="36162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063840" y="36162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101280" y="36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171840" y="36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243840" y="36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318720" y="36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90720" y="36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463800" y="36162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500520" y="36162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536160" y="36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608520" y="36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681600" y="36162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716160" y="36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783480" y="3616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845040" y="36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917040" y="36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992640" y="36162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30800" y="36162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23368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0568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8056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455800" y="37749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490360" y="37749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53428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60736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682960" y="37749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21120" y="37749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5676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2876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901840" y="37749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936400" y="37749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97636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04872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124320" y="37749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162120" y="37749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18840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26292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338520" y="37749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37164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440760" y="37749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50196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57432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649560" y="37749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686280" y="37749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72192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795000" y="37749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83712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906600" y="37749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97032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04268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11720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190280" y="37749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3060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246720" y="2747880"/>
              <a:ext cx="1800" cy="698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213600" y="3446640"/>
              <a:ext cx="64800" cy="90360"/>
            </a:xfrm>
            <a:custGeom>
              <a:avLst/>
              <a:gdLst/>
              <a:ahLst/>
              <a:rect l="l" t="t" r="r" b="b"/>
              <a:pathLst>
                <a:path w="41" h="57">
                  <a:moveTo>
                    <a:pt x="21" y="5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21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213600" y="3446640"/>
              <a:ext cx="64800" cy="90360"/>
            </a:xfrm>
            <a:custGeom>
              <a:avLst/>
              <a:gdLst/>
              <a:ahLst/>
              <a:rect l="l" t="t" r="r" b="b"/>
              <a:pathLst>
                <a:path w="41" h="57">
                  <a:moveTo>
                    <a:pt x="21" y="5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21" y="5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252520" y="6445080"/>
              <a:ext cx="167184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95000" y="64450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435400" y="6445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542320" y="64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635560" y="6445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742120" y="6445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848320" y="64450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913840" y="64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011760" y="6445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118680" y="6445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173400" y="64450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304080" y="6445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410280" y="6445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518280" y="6445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624480" y="6445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31400" y="6445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786480" y="6445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92680" y="64450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35520" y="6415200"/>
              <a:ext cx="50184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78360" y="64152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909040" y="64152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014880" y="64152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145200" y="64152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4572000" y="1752480"/>
              <a:ext cx="0" cy="4724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2209320" y="62485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609480" y="533520"/>
            <a:ext cx="8001000" cy="6095880"/>
            <a:chOff x="609480" y="533520"/>
            <a:chExt cx="8001000" cy="6095880"/>
          </a:xfrm>
        </p:grpSpPr>
        <p:sp>
          <p:nvSpPr>
            <p:cNvPr id="618" name=""/>
            <p:cNvSpPr/>
            <p:nvPr/>
          </p:nvSpPr>
          <p:spPr>
            <a:xfrm>
              <a:off x="609480" y="2819520"/>
              <a:ext cx="8001000" cy="4572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entRou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09480" y="5562720"/>
              <a:ext cx="3200400" cy="609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ource: SIP Sta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09480" y="4343400"/>
              <a:ext cx="3200400" cy="12193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ource Adap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733920" y="5638680"/>
              <a:ext cx="2133360" cy="7621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657600" y="4572000"/>
              <a:ext cx="2514600" cy="76212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tivity:Transa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2209680" y="6172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2133720" y="327636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362320" y="3200400"/>
              <a:ext cx="5867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ent (Activity ”SipServerTransaction”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ent type “javax.sip.request.REGISTER”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entObject “SIPRequest”, Addres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85800" y="1676520"/>
              <a:ext cx="3886200" cy="7617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tivityCon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 flipV="1">
              <a:off x="3809520" y="2437920"/>
              <a:ext cx="68580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804480" y="2438280"/>
              <a:ext cx="188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ne-to-one relations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09480" y="533520"/>
              <a:ext cx="198144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gistrarSb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1066680" y="114264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990720" y="1143000"/>
              <a:ext cx="739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nRegister(SIPRequest, SBBActivityContextInterfac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3567960" y="189000"/>
            <a:ext cx="10677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l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service cre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80880" y="1143000"/>
            <a:ext cx="7315200" cy="19810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33520" y="3505320"/>
            <a:ext cx="320040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33520" y="5105520"/>
            <a:ext cx="800100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724280" y="1752480"/>
            <a:ext cx="3962520" cy="19814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ar Service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937040" y="2286000"/>
            <a:ext cx="2971800" cy="11430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ot Sbb: RegistrarSb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937040" y="26668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913640" y="2819520"/>
            <a:ext cx="3236400" cy="307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itial event: javax.sip.request.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1523880" y="5562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599120" y="5668920"/>
            <a:ext cx="41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javax.sip.request.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4267080" y="31240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419720" y="4267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637800" y="4460760"/>
            <a:ext cx="31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processInitialEven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990720" y="1523880"/>
            <a:ext cx="1904760" cy="8384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arS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2590920" y="23623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142280" y="411480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 on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4T19:01:35Z</dcterms:created>
  <dc:creator>Ranganathan</dc:creator>
  <dc:description/>
  <dc:language>en-US</dc:language>
  <cp:lastModifiedBy>Ranganathan</cp:lastModifiedBy>
  <dcterms:modified xsi:type="dcterms:W3CDTF">2004-06-19T03:20:49Z</dcterms:modified>
  <cp:revision>36</cp:revision>
  <dc:subject/>
  <dc:title>Slide 1</dc:title>
</cp:coreProperties>
</file>