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C6B-97B9-47C0-95DE-1CEB489E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D3A-6CE9-4CFB-BC68-DE46704B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80A-57F2-455F-B30D-D749A4E9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308-B4F2-4683-B8A1-2A9DEE6A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FB1-B2D9-458F-8E86-82C1ED5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461-CA8A-4A9F-B746-5B650245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A10-318E-4076-A0CA-2098BBDF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CD2-6F17-45E3-A4AE-25132F99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88D-BF9E-44A2-92F1-53B3E771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94A-5485-4841-ADD6-C22A6835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A12-BE22-4892-9A81-7326315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590-317A-4946-B6C0-323839F6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4917-AA06-4B83-86EF-9BCD4E7D8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09480"/>
            <a:ext cx="1295280" cy="60984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447920"/>
            <a:ext cx="1295280" cy="60948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286000"/>
            <a:ext cx="1295280" cy="60948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3124080"/>
            <a:ext cx="1295280" cy="53352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609480"/>
            <a:ext cx="1828800" cy="609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ystem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1447920"/>
            <a:ext cx="1295640" cy="609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86000"/>
            <a:ext cx="1600200" cy="609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look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124080"/>
            <a:ext cx="1295640" cy="5335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9144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590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0760" y="1752480"/>
            <a:ext cx="1754640" cy="1679040"/>
            <a:chOff x="7160760" y="1752480"/>
            <a:chExt cx="1754640" cy="1679040"/>
          </a:xfrm>
        </p:grpSpPr>
        <p:sp>
          <p:nvSpPr>
            <p:cNvPr id="54" name=""/>
            <p:cNvSpPr/>
            <p:nvPr/>
          </p:nvSpPr>
          <p:spPr>
            <a:xfrm>
              <a:off x="7162920" y="1752480"/>
              <a:ext cx="1752480" cy="167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057400"/>
              <a:ext cx="1371240" cy="30456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f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2438280"/>
              <a:ext cx="1371240" cy="30492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tml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67480" y="2819160"/>
              <a:ext cx="1371240" cy="30492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ord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4440" y="297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60760" y="1752480"/>
              <a:ext cx="167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tractor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00600" y="838080"/>
            <a:ext cx="1143000" cy="259092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er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914400"/>
            <a:ext cx="10666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75248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33920" y="213372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33920" y="2209320"/>
            <a:ext cx="10666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838080"/>
            <a:ext cx="1904760" cy="6098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eType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1600" y="1812960"/>
            <a:ext cx="70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990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5760" y="7462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43240" y="1295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3320" y="10666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6120" y="2422440"/>
            <a:ext cx="106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819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3276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38000" y="2879640"/>
            <a:ext cx="109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-tex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114800"/>
            <a:ext cx="4038840" cy="11430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5720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en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572000"/>
            <a:ext cx="220968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ve RDF 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4520" y="41590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ceneS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8000" y="620640"/>
            <a:ext cx="1295280" cy="60984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413000"/>
            <a:ext cx="1295280" cy="6094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2276640"/>
            <a:ext cx="1295280" cy="6094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3141720"/>
            <a:ext cx="1295280" cy="53352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620640"/>
            <a:ext cx="1683000" cy="60984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ystem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413000"/>
            <a:ext cx="1683000" cy="6094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2276640"/>
            <a:ext cx="1683000" cy="6094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look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3141720"/>
            <a:ext cx="1683000" cy="5335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90792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1752480"/>
            <a:ext cx="17524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057400"/>
            <a:ext cx="1371600" cy="3049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f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2438280"/>
            <a:ext cx="1371600" cy="3049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819520"/>
            <a:ext cx="1371600" cy="30456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d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9444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1120" y="17524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ctor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838080"/>
            <a:ext cx="1143000" cy="25909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er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14400"/>
            <a:ext cx="10666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175248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33920" y="213372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33920" y="2209320"/>
            <a:ext cx="10666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838080"/>
            <a:ext cx="1904760" cy="6098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eType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5800" y="1052640"/>
            <a:ext cx="70668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990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7462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240" y="1295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3320" y="10666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6120" y="2422440"/>
            <a:ext cx="106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819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943240" y="3276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5800" y="2852640"/>
            <a:ext cx="109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-tex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114800"/>
            <a:ext cx="4038840" cy="1143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45720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en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572000"/>
            <a:ext cx="220968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data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7400" y="415764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torage (LuceneS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429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8000" y="3789360"/>
            <a:ext cx="1690560" cy="1727280"/>
            <a:chOff x="108000" y="3789360"/>
            <a:chExt cx="1690560" cy="1727280"/>
          </a:xfrm>
        </p:grpSpPr>
        <p:sp>
          <p:nvSpPr>
            <p:cNvPr id="116" name=""/>
            <p:cNvSpPr/>
            <p:nvPr/>
          </p:nvSpPr>
          <p:spPr>
            <a:xfrm>
              <a:off x="179280" y="4437000"/>
              <a:ext cx="1548000" cy="2872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Data 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00" y="3789360"/>
              <a:ext cx="1690560" cy="17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lor 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80" y="4797360"/>
              <a:ext cx="1548000" cy="289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Glue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80" y="4078440"/>
              <a:ext cx="1548000" cy="288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erture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80" y="5157720"/>
              <a:ext cx="1548000" cy="289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03280" y="170028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34290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549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54936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549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364500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o Sauermann</cp:lastModifiedBy>
  <dcterms:modified xsi:type="dcterms:W3CDTF">2006-06-01T08:50:48Z</dcterms:modified>
  <cp:revision>10</cp:revision>
  <dc:subject/>
  <dc:title>PowerPoint Presentation</dc:title>
</cp:coreProperties>
</file>