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B3F0-88D0-4CA6-85D9-FF2273C45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4FC-E25A-4069-9A36-1D126D33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F97-2B7C-4BF5-A2E6-7932C6FA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2AE-5DC5-429F-8FE8-542FCDAC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319-7AAA-4AAE-9D7F-4E69313F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131-A7FF-47CF-984D-C5009C4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22F-3F0A-4168-A436-0FBE16A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B94-54D1-4B1B-B5A2-14E872B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E3E-4D23-4AFA-891C-BF0B7A2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FDF-6646-4557-91A9-7C033E99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F90-8E9C-4135-868D-E87C769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619-9437-4E96-8896-D27AAE7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B1A-3615-4D18-91BC-2AF0B1C3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4B6-BF3C-4DBF-819E-21A083195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11T09:03:15Z</dcterms:modified>
  <cp:revision>33</cp:revision>
  <dc:subject/>
  <dc:title>Slf4j &amp; logback projects</dc:title>
</cp:coreProperties>
</file>