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0207-4455-458B-9429-C6F4A350C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F2F-7819-4AD4-BE1F-4CE2FB01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29E-36F0-4854-A5E8-1A78031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FC8-2422-4A3E-A3DD-2F3512C3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53C-828C-4CB9-A77C-C66B0138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1D6-A84E-4101-9BE2-34C36EC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890-6B6F-4F37-B179-C7B197E2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DB6-32A1-4E07-9A64-3C0F7948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659-B0E4-4ED8-B773-5312E75D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D06-271E-4A4C-814D-9A002424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614-3022-48D5-819A-4C70EE73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315-4699-4D6C-A5A9-51B0E5C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FA3-ED58-486F-9416-0C93E362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D16F-73E5-4FDE-8C85-3801F417B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11T09:03:15Z</dcterms:modified>
  <cp:revision>33</cp:revision>
  <dc:subject/>
  <dc:title>Slf4j &amp; logback projects</dc:title>
</cp:coreProperties>
</file>